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7B38-FA0F-4FF1-922E-778CDBD47B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3255840" y="504720"/>
            <a:ext cx="3362400" cy="2521080"/>
          </a:xfrm>
          <a:prstGeom prst="rect">
            <a:avLst/>
          </a:prstGeom>
          <a:ln w="0">
            <a:noFill/>
          </a:ln>
        </p:spPr>
      </p:sp>
      <p:sp>
        <p:nvSpPr>
          <p:cNvPr id="14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7530-5920-4029-9688-4AE2199920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255840" y="504720"/>
            <a:ext cx="3362400" cy="2521080"/>
          </a:xfrm>
          <a:prstGeom prst="rect">
            <a:avLst/>
          </a:prstGeom>
          <a:ln w="0">
            <a:noFill/>
          </a:ln>
        </p:spPr>
      </p:sp>
      <p:sp>
        <p:nvSpPr>
          <p:cNvPr id="15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Rëndësia e trajnimit për krimin kibernetik</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allafaqimi me veprat penale kibernetike nënkupton njohjen e aspekteve teknike dhe ligjore që janë specifike për këtë formë të kriminaliteti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se jeni tashmë i specializuar me krimin kibernetik, kushtet teknike dhe veprat penale (si phishing, keyloggers, malware ose botnet) janë të njohura për ju. Megjithatë, ato nuk janë terma për jo profesionistët dhe do të jetë e rëndësishme të bëhen trajnime të mjaftueshme për të kuptuar atë që përfaqësojnë ato dhe pastaj të shpjegohen në mënyrë të qartë dhe të kuptueshme për gjyqtarët dhe juritë, të cilët nuk mund të kenë një nivel të barabartë ekspertiz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etimet e krimit kibernetik janë gjithashtu jashtëzakonisht teknike në kuptimin që dikush duhet të ketë fituar një sërë praktikash të mira operative për të ngrirë provën, për ta siguruar dhe për ta shfrytëzuar atë.</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ë fundi, për shkak të mbizotërimit të dëshmive digjitale sot, trajnimi për veprat penale kibernetike është duke u bërë gjithnjë e më shumë themelor në përgjithësi. Në botën moderne, të digjitalizuar, hapi i parë pas çdo krimi të rëndë, qoftë vrasje apo rrëmbim, do të jetë për të kapur dhe analizuar një kompjuter ose një telefon inteligjent. Prandaj, është e domosdoshme të mësosh se si të trajtosh provat digjitale në kushte të mira.</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brojtja e skenës së krimit dhe ruajtja e provav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ëshmia digjitale është e paqëndrueshme dhe është jetike që nga fillimi i një hetimi për</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identifikuar se ku janë ruajtur prova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garantuar sigurinë e tij,</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shfrytëzuar dhe analizuar këto prova, në mënyrë që të garantojnë vërtetësia e saj dhe rezultatet që do të dalin.</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unonjësit e policisë dhe prokurorët, në trajtimin e këtyre dy hapave, mund të duhet të mbështeten në bashkëpunimin e viktimës, si dhe në ndihmën shtesë të ekspertëve të specializuar të zbatimit të ligjit dhe ekspertëve të pavarur gjatë analizimit të provav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eagimi i parë i viktimës, kur zbulon se sistemi i tyre kompjuterik është i sulmuar, mund të jetë që të përpiqen të riparojnë vetë dëmin. Një mendim i tillë është shumë kundërintuitiv pasi përkundrazi, refleksi i tyre i parë duhet të jetë të ngrijnë provat dhe të mos rrezikojnë hetimet e ardhshme. Kompjuterët e sulmuar ose komprometuar menjëherë duhet të izolohen dhe të fiken në mënyrë që të analizohen nga ekspertët e mjekësisë ligjor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ur dëshmitë digjitale janë në dispozicion të ofruesve të shërbimeve ose palëve të treta, ato duhet të kontaktohen menjëherë me qëllim që të ruhen të dhënat e nevojshme. Kërkesat e ruajtjes mund të dërgohen tek ofruesit e shërbimeve, duke u kërkuar atyre të ruajnë shkrimet, veçanërisht kur shkrimet e tilla janë jashtë juridiksionit kombëtar. </a:t>
            </a:r>
            <a:endParaRPr b="0" lang="en-US" sz="600" spc="-1" strike="noStrike">
              <a:solidFill>
                <a:srgbClr val="000000"/>
              </a:solidFill>
              <a:latin typeface="Calibri"/>
            </a:endParaRPr>
          </a:p>
        </p:txBody>
      </p:sp>
      <p:sp>
        <p:nvSpPr>
          <p:cNvPr id="15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BCFF-DBAC-43E8-8BE4-C6917FDD96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3255840" y="504720"/>
            <a:ext cx="3362400" cy="2521080"/>
          </a:xfrm>
          <a:prstGeom prst="rect">
            <a:avLst/>
          </a:prstGeom>
          <a:ln w="0">
            <a:noFill/>
          </a:ln>
        </p:spPr>
      </p:sp>
      <p:sp>
        <p:nvSpPr>
          <p:cNvPr id="15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Përcaktimi i instrumentit ligjor që përdoret për të kërkuar ndihmë - traktati, konventa ose ndonjë instrument tjetër bashkëpunimi.</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dihma e ndërsjellë ligjore bazohet në ekzistencën e </a:t>
            </a:r>
            <a:r>
              <a:rPr b="0" lang="en-US" sz="500" spc="-1" strike="noStrike" u="sng">
                <a:solidFill>
                  <a:srgbClr val="000000"/>
                </a:solidFill>
                <a:uFillTx/>
                <a:latin typeface="Calibri"/>
              </a:rPr>
              <a:t>marrëveshjeve shumëpalëshe ose dypalëshe </a:t>
            </a:r>
            <a:r>
              <a:rPr b="0" lang="en-US" sz="500" spc="-1" strike="noStrike">
                <a:solidFill>
                  <a:srgbClr val="000000"/>
                </a:solidFill>
                <a:latin typeface="Calibri"/>
              </a:rPr>
              <a:t>(traktati ose konventa).</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Marrëveshjet shumëpalëshe të zbatueshme për veprat penale kibernetike:</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gn="just">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Këshillit të Evropës:</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onventa Evropiane për Ndihmën e Ndërsjelltë në Çështjet Penale (20 prill 1959) është ratifikuar nga 47 shtetet anëtare të Këshillit të Evropës, si dhe nga Izraeli, Kili, Koreja. Kjo Konventë do të trajtohet më vonë pasi është baza e Konventës së Budapestit, e cila është një mjet themelor për ngrirjen e provave digjitale jashtë vendi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Bashkimit Evropia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onventa për Ndihmën e Ndërsjellë Juridike ndërmjet Shteteve Anëtare të Bashkimit Europian (29 maj 2000) është shumë e rëndësishme sepse lejon prokurorët dhe gjyqtarët e 28 shteteve anëtare që të transmetojnë drejtpërdrejtë njëri-tjetrit kërkesat e ndërsjella ligjore (NNJ). Këto mund të lidhen me teknikat moderne të hetimit, siç janë konferencat video, mbikëqyrja e telekomunikimeve ose grupet e përbashkëta hetimore (GPH).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Konventat bilaterale </a:t>
            </a:r>
            <a:r>
              <a:rPr b="0" lang="en-US" sz="500" spc="-1" strike="noStrike">
                <a:solidFill>
                  <a:srgbClr val="000000"/>
                </a:solidFill>
                <a:latin typeface="Calibri"/>
              </a:rPr>
              <a:t>janë marrëveshje që lidhin dy shtete sovrane. Çdo konventë do të përmbajë rregullat e veta specifike që përcaktojnë kushtet e ndërsjella të ndihmës ligjore që zbatohe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ë mungesë të çfarëdo lloj marrëveshjeje shumëpalëshe ose dypalëshe me një vend të huaj, gjithmonë është e mundur të dërgoni një kërkesë për ndihmë të bazuar në parimin e përgjithshëm të "</a:t>
            </a:r>
            <a:r>
              <a:rPr b="0" lang="en-US" sz="500" spc="-1" strike="noStrike" u="sng">
                <a:solidFill>
                  <a:srgbClr val="000000"/>
                </a:solidFill>
                <a:uFillTx/>
                <a:latin typeface="Calibri"/>
              </a:rPr>
              <a:t>reciprocitetit</a:t>
            </a:r>
            <a:r>
              <a:rPr b="0" lang="en-US" sz="500" spc="-1" strike="noStrike">
                <a:solidFill>
                  <a:srgbClr val="000000"/>
                </a:solidFill>
                <a:latin typeface="Calibri"/>
              </a:rPr>
              <a:t>". Më pas, autoritetet e huaja do të vendosin sipas kompetencave të tyre nëse dëshirojnë ose jo ta zbatojnë kërkesë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ikimi i qartë i atij që po kryen hetimin / ndjekjen penale. Jepni të gjitha detajet e nevojshme të kontaktit dhe mjetet e preferuara të komunikimi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Gjithashtu mund të jetë e dobishme për pikën e kontaktit të hetimit / ndjekjes për të specifikuar cilat gjuhë mund të shkëmbejnë drejtpërdrej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Përmbledhja e çështj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ërmbledhja e qëllimit të provës është të tregojë domosdoshmërinë e kërkesës (ose NNJ) për hetimin, si dhe pajtueshmërinë e saj me dispozitat ligjore dhe konvencionale të Shtetit të kërkua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ërmbledhja do të jetë pak a shumë e gjatë në varësi të faktit se sa të detyrueshme dhe të ndërlikuara janë masat e kërkuara. Veçanërisht, nëse këto masa janë shtrënguese ose ndërhyrëse (për shembull, përgjimi i një bisede), shumë vende, ndër të cilat vendet me një traditë ligjore anglosaksone, do t'ju kërkojnë të tregoni “shkakun e mundshëm". Në këtë rast, duhe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se masa shtrënguese ose ndërhyrëse është rreptësisht e nevojshme dhe proporcionale me seriozitetin e veprës (për shembull dënimi maksimal i zbatueshëm, prishja e "rendit publik" që shkelja ka shkaktuar, paragjykimi i viktimë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motivet që ju lejojnë të mendoni në mënyrë të arsyeshme se prova gjendet në një vend të caktuar ose në posedimin e një personi të caktua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se si provat që kërkoni, do të përbëjnë një element ligjor të provës që karakterizon veprën penale.</a:t>
            </a:r>
            <a:endParaRPr b="0" lang="en-US" sz="500" spc="-1" strike="noStrike">
              <a:solidFill>
                <a:srgbClr val="000000"/>
              </a:solidFill>
              <a:latin typeface="Calibri"/>
            </a:endParaRPr>
          </a:p>
        </p:txBody>
      </p:sp>
      <p:sp>
        <p:nvSpPr>
          <p:cNvPr id="15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013E-EB40-4B8B-B10E-1942623528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3255840" y="504720"/>
            <a:ext cx="3362400" cy="2521080"/>
          </a:xfrm>
          <a:prstGeom prst="rect">
            <a:avLst/>
          </a:prstGeom>
          <a:ln w="0">
            <a:noFill/>
          </a:ln>
        </p:spPr>
      </p:sp>
      <p:sp>
        <p:nvSpPr>
          <p:cNvPr id="16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Referenca ndaj dispozitave ligjore kombëtare në fuq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zitat ligjore kombëtare në fuqi do të lejojnë që autoritetet e kërkuara të garantojn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veprat penale nuk kanë karakter politik ose ekskluzivisht ushtar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rendi publik nuk do të rrezikohet nga përgjigjja e kërkesë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kushti i kriminalizimit të dyfishtë, nëse kërkohet, është i përmbush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Identifikimi i saktë i ndihmës që kërkoh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rëndësishme të jeni sa më saktë që të jetë e mundur në lidhje me ndihmën që dëshironi të merrni.  </a:t>
            </a:r>
            <a:endParaRPr b="0" lang="en-US" sz="1200" spc="-1" strike="noStrike">
              <a:solidFill>
                <a:srgbClr val="000000"/>
              </a:solidFill>
              <a:latin typeface="Calibri"/>
            </a:endParaRPr>
          </a:p>
        </p:txBody>
      </p:sp>
      <p:sp>
        <p:nvSpPr>
          <p:cNvPr id="16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F9E9-0E8D-48A0-9858-B8F5884660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255840" y="504720"/>
            <a:ext cx="3362400" cy="2521080"/>
          </a:xfrm>
          <a:prstGeom prst="rect">
            <a:avLst/>
          </a:prstGeom>
          <a:ln w="0">
            <a:noFill/>
          </a:ln>
        </p:spPr>
      </p:sp>
      <p:sp>
        <p:nvSpPr>
          <p:cNvPr id="16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Rregullat kombëtare procedurale në lidhje me dëshmitarët dhe si të marrin dëshminë e tyre mund të ndryshojnë nga një sistem ligjor në tjetri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pas legjislacionit kombëtar, dëshmitarët mund ose mund të mos duhet të bëjnë betimin para dhënies së dëshmisë dhe mund të jenë të detyruar të akuzohen për shkak të "dëshmisë së rremë" nëse deklarata e tyre nuk është e saktë. Disa legjislacione kombëtar mund të marrin masa shtrënguese gjithashtu për dëshmitarët që marrin një fletëthirrje por nuk paraqiten, duke filluar nga gjoba deri në burgosje. Së fundi, për shkak të situatës së tyre personale (për shembull, si bashkëshorti apo prindi i të dyshuarit), disa njerëz nuk mund të thirren fare si dëshmitarë.</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Kur një shtet kërkues i kërkon një shteti tjetër t’i japë dëshminë e një dëshmitari, do të zbatohet legjislacioni kombëtar i shtetit të kërkuar, përveçse kur një konventë dypalëshe ose shumëpalëshe e përcakton ndryshe.</a:t>
            </a:r>
            <a:r>
              <a:rPr b="0" lang="en-US" sz="800" spc="-1" strike="noStrike">
                <a:solidFill>
                  <a:srgbClr val="000000"/>
                </a:solidFill>
                <a:latin typeface="Calibri"/>
              </a:rPr>
              <a:t> Kjo do të thotë se ju mund t’i jepni rregullat tuaja procedurale kombëtare në lidhje me dëshminë e dëshmitarit, por nëse nuk keni një konventë të detyrueshme dypalëshe ose shumëpalëshe, e cila i zbaton këto rregulla kombëtare të procedurës, shteti i kërkuar nuk ka asnjë detyrim t'i ndjekë ato.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asi të dispononi informacionin në lidhje me procedurat kombëtare në fuqi, ose me konventat e zbatueshme shumëpalëshe ose dypalëshe, është e rëndësishme të jepni:</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jë listë shteruese e pyetjeve, të cilat gjithashtu mund të specifikojnë pyetje të ndryshme në zhvillim sipas përgjigjeve të dëshmitarit;</a:t>
            </a:r>
            <a:endParaRPr b="0" lang="en-US" sz="800" spc="-1" strike="noStrike">
              <a:solidFill>
                <a:srgbClr val="000000"/>
              </a:solidFill>
              <a:latin typeface="Calibri"/>
            </a:endParaRPr>
          </a:p>
          <a:p>
            <a:pPr algn="just">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ë gjitha informatat e dobishme në lidhje me identitetin e dëshmitarit dhe vendndodhjen e tij/saj.</a:t>
            </a:r>
            <a:endParaRPr b="0" lang="en-US" sz="800" spc="-1" strike="noStrike">
              <a:solidFill>
                <a:srgbClr val="000000"/>
              </a:solidFill>
              <a:latin typeface="Calibri"/>
            </a:endParaRPr>
          </a:p>
          <a:p>
            <a:pPr indent="0" algn="just">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jithashtu mund të jetë e dobishme të merret në konsideratë mundësia e </a:t>
            </a:r>
            <a:r>
              <a:rPr b="0" lang="en-US" sz="800" spc="-1" strike="noStrike" u="sng">
                <a:solidFill>
                  <a:srgbClr val="000000"/>
                </a:solidFill>
                <a:uFillTx/>
                <a:latin typeface="Calibri"/>
              </a:rPr>
              <a:t>videokonferencës</a:t>
            </a:r>
            <a:r>
              <a:rPr b="0" lang="en-US" sz="800" spc="-1" strike="noStrike">
                <a:solidFill>
                  <a:srgbClr val="000000"/>
                </a:solidFill>
                <a:latin typeface="Calibri"/>
              </a:rPr>
              <a:t>, me ndihmën eventuale të një përkthyesi, në mënyrë që zbatimi i ligjit kombëtar të mund të vazhdojë me marrjen në pyetje drejtpërdrej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Konventa Evropiane për ndihmën e ndërsjellë në çështjet penale (20 prill 1959), e ratifikuar nga 47 shtetet anëtare të Këshillit të Evropës si dhe nga Izraeli, Koreja dhe Kili përmban nene të veçantë që lidhen me dëshmitarët që mund të jenë në kundërshtim me rregullat procedurale kombëtar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ni 8 i Konventës thekson se dëshmitarët që kanë marrë një fletëthirrje për të dëshmuar nga një Shtet Anëtar kërkues nuk mund t'i nënshtrohen masave shtrënguese për aq kohë sa ata mbeten jashtë territorit të shtetit kërku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ni 11 i Konventës specifikon se në cilat kushte një dëshmitar i cili është i ndaluar për arsye të tjera, mund të transferohet përkohësisht në një Shtet Anëtar kërkues për të dhënë dëshmi.</a:t>
            </a:r>
            <a:endParaRPr b="0" lang="en-US" sz="800" spc="-1" strike="noStrike">
              <a:solidFill>
                <a:srgbClr val="000000"/>
              </a:solidFill>
              <a:latin typeface="Calibri"/>
            </a:endParaRPr>
          </a:p>
        </p:txBody>
      </p:sp>
      <p:sp>
        <p:nvSpPr>
          <p:cNvPr id="16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FECF-D00F-4DB3-9895-CB071EEA05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255840" y="504720"/>
            <a:ext cx="3362400" cy="2521080"/>
          </a:xfrm>
          <a:prstGeom prst="rect">
            <a:avLst/>
          </a:prstGeom>
          <a:ln w="0">
            <a:noFill/>
          </a:ln>
        </p:spPr>
      </p:sp>
      <p:sp>
        <p:nvSpPr>
          <p:cNvPr id="16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Procedura specifike në lidhje me dokumentet financiare / banka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okumentet e llogarisë bankare janë interesante për një numër të madh hetimesh seps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und të identifikoni personin që përfiton nga vepra penal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und të sekuestroni ose konfiskoni fondet në raste të caktua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nd të kërkohen dy lloje të përgjithshme të informacioni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identifikimi i mbajtësit të një llogarie bankare të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dokumentet që detajojnë transaksionet financiare që kryhen në një llogari të caktua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Është e rëndësishme që të jeni sa më të saktë që të jetë e mundur kur kërkoni informacion të tillë dhe të mos humbisni kohën. Një hap i parë i mirë përpara se të shkruani një kërkesë të NNJ mund të jetë dërgimi i një kërkese në degën kombëtare të bankës që ju intereson, duke u kërkuar atyre informacion për identitetin e mbajtësit të një llogarie bankare.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ërkesat për MLAT lidhur me dokumentet financiare do të kenë më shumë shanse për sukses kur ato të jenë të sakta, të plota dhe të përmbajnë informacion të tillë si: numri i llogarisë bankare, emri dhe adresa e bankës dhe periudha kohore gjatë së cilës u kryen transaksione të dyshimta.</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nd të merren elementet e mëposhtm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nënshkrimit të mbajtësi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dentiteti i të mandatuarit për të përdorur llogarinë bankare dhe një kopje e firmës së tij/saj;</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deklaratës së gjendjes së llogarisë dhe formularët për një periudhë të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çeqeve të shkr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dentifikimi i të gjitha llogarive bankare të mbajtura nga një person i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survejimi i llogarive bankare gjatë një periudhe kohe të ardhshm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htu si me çdo kërkesë tjetër për NNJ, do të jetë e rëndësishme të përcaktohet pse informacioni i kërkuar është "i përshtatshëm" për hetimet. Gjithashtu do të jetë e nevojshme të verifikohen konventat e zbatueshme dhe pajtueshmëria me legjislacionin kombëtar të shtetit të kërk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hkaqet për refuzimin e ekzekutimit të kërkesë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ërkesa të tilla në përgjithësi nuk janë të vështira, të paktën me shtetet anëtare të Bashkimit Evropian ose me Task Forcën e Veprimit Financiar (https://www.fatf-gafi.org/).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y shkaqe refuzimi janë më shpeshta:</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ospajtueshmëria e kërkesës me legjislacionin kombëtar</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Bashkimit Evropian dhe të Task Forcës së Veprimit Financiar (FATF) nuk mund të refuzojnë një kërkesë për NNJ për këto arsye. Anëtarët e FATF aktualisht janë Komisioni Europian, Këshilli i Bashkëpunimit të Gjirit, shtetet anëtare të Bashkimit Evropian, si dhe Zvicra, Rusia, Kanadaja, Shtetet e Bashkuara të Amerikës, Meksika, Brazili, Japonia, Kina, Hong Kongu dhe Singapo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Kriminalizimi i dyfishtë </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isa shtete do të ekzekutojnë një kërkesë për NNJ vetëm nëse në legjislacionin e tyre kombëtar ekziston një inkriminim ose kundërvajtje e tillë. Për Shtetet Anëtare të Bashkimit Europian, neni 2.4 i Protokollit të vitit 2001 u lejon atyre të marrin në konsideratë kriminalizimin e dyfishtë kur të ekzekutojnë një kërkesë për NNJ. Konventa e Budapestit parashikon se palët mund të refuzojnë ndihmë juridike të ndërsjellë nëse nuk përmbushet kushti i kriminalizimit të dyfishtë. Megjithatë, sipas nenit 25 (5) të Konventës së Budapestit, si dhe Rekomandimit 37 të Rekomandimeve të FATF, kushtet e kriminalizimit të dyfishtë do të konsiderohen të përmbushura, pavarësisht nëse ligjet e vendosin veprën penale brenda së njëjtës kategori të veprave penale ose e emërtojnë atë vepër penale me terminologjinë e njëjtë si Pala kërkuese, nëse veprimi në të cilin bazohet vepra penale për të cilën kërkohet ndihma është një vepër penale sipas ligjit të tij.</a:t>
            </a:r>
            <a:endParaRPr b="0" lang="en-US" sz="500" spc="-1" strike="noStrike">
              <a:solidFill>
                <a:srgbClr val="000000"/>
              </a:solidFill>
              <a:latin typeface="Calibri"/>
            </a:endParaRPr>
          </a:p>
        </p:txBody>
      </p:sp>
      <p:sp>
        <p:nvSpPr>
          <p:cNvPr id="16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8E4B-40BF-4BFB-BA03-01A3CCC10F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255840" y="504720"/>
            <a:ext cx="3362400" cy="2521080"/>
          </a:xfrm>
          <a:prstGeom prst="rect">
            <a:avLst/>
          </a:prstGeom>
          <a:ln w="0">
            <a:noFill/>
          </a:ln>
        </p:spPr>
      </p:sp>
      <p:sp>
        <p:nvSpPr>
          <p:cNvPr id="16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 shembull, një MLAT që i referohet një kompjuteri, tek i cili është ndërhyrë në mënyrë të paautorizuar, duhet të specifikojë se një adresë IP e dyshimtë 210.0.XXX.XXX që korrespondon me një shërbimofrues interneti që gjendet në Qytetin X, të Vendit të Huaj Y, e cila lidhet me kompjuterin e aksesuar pa autorizim më 1 janar 2017 7:30 dhe 11:30 (GMT +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timet tona na mundësuan të përcaktonim se adresa e dyshimtë IP 210.0.XXX.XXX është e shoqërisë XXXX, adresa fizike e së cilës është XXX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rëndësishme të jepni sa më shumë informata specifike dhe të detajua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at e kohës duhet të jepen gjithmonë sipas Kohës Mesatare të Grinuiçit (GMT).    </a:t>
            </a:r>
            <a:endParaRPr b="0" lang="en-US" sz="1200" spc="-1" strike="noStrike">
              <a:solidFill>
                <a:srgbClr val="000000"/>
              </a:solidFill>
              <a:latin typeface="Calibri"/>
            </a:endParaRPr>
          </a:p>
        </p:txBody>
      </p:sp>
      <p:sp>
        <p:nvSpPr>
          <p:cNvPr id="17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35FE-ED2F-4968-8EDB-688955CD48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255840" y="504720"/>
            <a:ext cx="3362400" cy="2521080"/>
          </a:xfrm>
          <a:prstGeom prst="rect">
            <a:avLst/>
          </a:prstGeom>
          <a:ln w="0">
            <a:noFill/>
          </a:ln>
        </p:spPr>
      </p:sp>
      <p:sp>
        <p:nvSpPr>
          <p:cNvPr id="17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igji i zbatueshëm për ekzekutimin e kërkesës është ligji i </a:t>
            </a:r>
            <a:r>
              <a:rPr b="1" lang="en-US" sz="600" spc="-1" strike="noStrike">
                <a:solidFill>
                  <a:srgbClr val="000000"/>
                </a:solidFill>
                <a:latin typeface="Calibri"/>
              </a:rPr>
              <a:t>shtetit të kërkuar</a:t>
            </a:r>
            <a:r>
              <a:rPr b="0" lang="en-US" sz="600" spc="-1" strike="noStrike">
                <a:solidFill>
                  <a:srgbClr val="000000"/>
                </a:solidFill>
                <a:latin typeface="Calibri"/>
              </a:rPr>
              <a:t>, përveç rastit kur një konventë dypalëshe ose shumëpalëshe e përcakton ndrysh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jo është arsyeja pse ligjet procedurale të zbatueshme për një urdhër kërkimi ndryshojnë në varësi të faktit nëse sistemi gjyqësor i shtetit të kërkuar është </a:t>
            </a:r>
            <a:r>
              <a:rPr b="1" lang="en-US" sz="600" spc="-1" strike="noStrike">
                <a:solidFill>
                  <a:srgbClr val="000000"/>
                </a:solidFill>
                <a:latin typeface="Calibri"/>
              </a:rPr>
              <a:t>inkuizitor</a:t>
            </a:r>
            <a:r>
              <a:rPr b="0" lang="en-US" sz="600" spc="-1" strike="noStrike">
                <a:solidFill>
                  <a:srgbClr val="000000"/>
                </a:solidFill>
                <a:latin typeface="Calibri"/>
              </a:rPr>
              <a:t>, në të cilin gjyqtari - siç është gjyqtari hetues francez ose belg - vendos me iniciativën e vet për të dhënë një urdhër-kërkimi ose </a:t>
            </a:r>
            <a:r>
              <a:rPr b="1" lang="en-US" sz="600" spc="-1" strike="noStrike">
                <a:solidFill>
                  <a:srgbClr val="000000"/>
                </a:solidFill>
                <a:latin typeface="Calibri"/>
              </a:rPr>
              <a:t>akuzator</a:t>
            </a:r>
            <a:r>
              <a:rPr b="0" lang="en-US" sz="600" spc="-1" strike="noStrike">
                <a:solidFill>
                  <a:srgbClr val="000000"/>
                </a:solidFill>
                <a:latin typeface="Calibri"/>
              </a:rPr>
              <a:t>, në të cilin urdhri do të ekzekutohet nga policia, si në Angli, ose nga një prokuror, si në Itali apo Gjermani, nën kontrollin e një gjyqtari që garanton ligjshmërinë e hetimev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Urdhrat e kërkimit në përgjithësi konsiderohen si masa ligjore ndërhyrëse dhe shtrënguese. Prandaj është shumë e rëndësishme të përmblidhni çështjen në mënyrë të plotë dhe të shpjegoni gjithmonë arsyetimin për provat dhe veprimet që kërkohen në lidhje me hetimet në vazhdim. Gjithashtu, është thelbësore që të njihen dispozitat ligjore kombëtare dhe procedurat e shtetit të kërkua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endet e ndikuara nga anglosaksonët ose ligji i përbashkët do të kërkojnë në mënyrë specifike një përmbledhje shumë të gjerë të çështjes për të përcaktuar ekzistencën e shkakut të mundshëm. Në të vërtetë, autoriteti gjyqësor kompetent vendor do të duhet të japë urdhërin e tij në mënyrë që masa e hetimit të ndërmerre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Dorëzimi i një urdhri të tillë do të kushtëzohet nga demonstrimi i:</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roporcionalitetit të masës hetimore ndaj veprës;</a:t>
            </a:r>
            <a:endParaRPr b="0" lang="en-US" sz="600" spc="-1" strike="noStrike">
              <a:solidFill>
                <a:srgbClr val="000000"/>
              </a:solidFill>
              <a:latin typeface="Calibri"/>
            </a:endParaRPr>
          </a:p>
          <a:p>
            <a:pPr algn="just">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mosdoshmëria e saj (a nuk mund të prodhojë rezultate të ngjashme një masë më pak detyruese dhe shtrënguese?);</a:t>
            </a:r>
            <a:endParaRPr b="0" lang="en-US" sz="600" spc="-1" strike="noStrike">
              <a:solidFill>
                <a:srgbClr val="000000"/>
              </a:solidFill>
              <a:latin typeface="Calibri"/>
            </a:endParaRPr>
          </a:p>
          <a:p>
            <a:pPr algn="just">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kzistenca e arsyeve serioze që çojnë në besimin se provat do të gjenden në vendin ku kërkohet të bëhet kërkim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Dhënia e udhëzimeve të qarta për vendet dhe objektet që do të kontrollohe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uhen dhënë udhëzime të sakta për provat dhe objektet e kontrolluara, si dhe vendet ku këto elemente duhet të gjenden. Në disa raste, për shembull kur këto saktësime nuk mund të jepen në kohën kur është shkruar kërkesa për NNJ, është e mundur të specifikohen detajet e kontaktit të autoritetit gjyqësor kërkues, në mënyrë që autoriteti i kërkuar të kërkojë më vonë për çdo informacion plotësues të nevojshëm.</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Urdhra kontrolli të koordinuar </a:t>
            </a:r>
            <a:r>
              <a:rPr b="0" lang="en-US" sz="600" spc="-1" strike="noStrike">
                <a:solidFill>
                  <a:srgbClr val="000000"/>
                </a:solidFill>
                <a:latin typeface="Calibri"/>
              </a:rPr>
              <a:t>mund të ekzekutohen në vende të ndryshme duke përdorur GPH (Grupet e Përbashkëta Hetimore) ose nëpërmjet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hkaqet specifike për refuzimin e ekzekutimit të një urdhër kontrolli:</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Këshilli i Evropës, duke përjashtuar zonën e Shengeni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5 i Konventës Evropiane për Ndihmën e Ndërsjelltë në Çështjet Penale (20 prill 1959) specifikon se shtetet anëtare mund të refuzojnë të ekzekutojnë një urdhër kontrolli për një nga dy arsyet e mëposhtme:</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Kriminalizimi i dyfishtë: shteti i kërkuar mund të refuzojë ekzekutimin e urdhrit të kontrolli nëse vepra që i referohet nuk dënohet sipas ligjit të tij kombëtar ose nëse vepra në fjalë nuk dënohet me ligjin e tij me një dënim të ashpër për të lejuar ekstradimin ( jo një "vepër e ekstradueshme").</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Mospërputhja e kërkesës me të drejtën kombëtare të Shtetit të kërkuar: kjo i lejon shtetet të dorëzojnë ekzekutimin e urdhrit për autorizimin e një gjyqtari kombëtar që garanton ligjshmërinë e hetimeve në përputhje me ligjin dhe procedurën kombëta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htetet mund të përdorin vetëm këto shkaqe refuzimi nëse i deklarojnë ato gjatë ratifikimit të Konventës. Për të ditur se cilat deklarata janë bërë nga çdo shtet, ky informacion është në dispozicion në faqen e Internetit të Këshillit të Evropës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A250-02DF-4451-A72D-89E4DB96C7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55840" y="504720"/>
            <a:ext cx="3362400" cy="2521080"/>
          </a:xfrm>
          <a:prstGeom prst="rect">
            <a:avLst/>
          </a:prstGeom>
          <a:ln w="0">
            <a:noFill/>
          </a:ln>
        </p:spPr>
      </p:sp>
      <p:sp>
        <p:nvSpPr>
          <p:cNvPr id="17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mundur që shteti kërkues t’i kërkojë nga shtetit të kërkuar që të japë një deklaratë ose një dokument që vërte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çdo objekt që është sekuestr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çdo person që e ka marrë ose e ka pasur në zotërim objektin në fjal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kushtet në të cilat ruhej ose mbahej objek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do të lejojë ligjzbatuesit dhe gjykatat për të përcaktuar saktësisht se si janë marrë provat dhe nëse mund të jenë prishur apo j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4E79-FEE7-4DA4-B4D4-26DD849131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55840" y="504720"/>
            <a:ext cx="3362400" cy="2521080"/>
          </a:xfrm>
          <a:prstGeom prst="rect">
            <a:avLst/>
          </a:prstGeom>
          <a:ln w="0">
            <a:noFill/>
          </a:ln>
        </p:spPr>
      </p:sp>
      <p:sp>
        <p:nvSpPr>
          <p:cNvPr id="17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Masat hetimore të posaçme mund të përfshijnë:</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peracione të fshehta, të tilla si infiltrimi nga një agjent i fshehtë; (p.sh. neni 14 i Konventës për Ndihmë të Ndërsjellë Juridike ndërmjet Shteteve Anëtare të Bashkimit Europian (29 Maj 2000), neni 29 i Direktivës 2014 për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terceptimi i telekomunikimeve (ose përgjimi); (p.sh. neni 17-22 të Konventës mbi Ndihmën e Ndërsjellë Juridike midis Shteteve Anëtare të Bashkimit Europian (29 maj 2000), nenet 30 dhe 31 të Direktivës së vitit 2014 lidhur me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ideokonferencat; (p.sh. neni 10 i Konventës për ndihmë të ndërsjellë juridike ndërmjet shteteve anëtare të Bashkimit Evropian (29 maj 2000), neni 24 i Direktivës së vitit 2014 lidhur me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ërgesat e kontrolluara; (p.sh. neni 12 i konventës për ndihmën e ndërsjellë juridike ndërmjet shteteve anëtare të Bashkimit Evropian (29 maj 2000))</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a i përket infiltrimit nga një agjent i fshehtë, kjo masë e posaçme hetimore nuk zbatohet kudo se legjislacionet mund ta konsiderojnë këtë masë si një formë "provokimi".</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sat e posaçme hetimore janë përgjithësisht më të rënda dhe më të shtrenjta se masat e zakonshme. Nëse i konsideroni ato të jenë gjithsesi rigorozisht të nevojshme për hetimin tuaj, mund të jetë gjithashtu një ide e mirë të konsideroni nënshkrimin e një marrëveshjeje të përbashkët hetimi (GPH). </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Marrëveshja GPH:</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13 i Konventës mbi ndihmën e ndërsjellë juridike ndërmjet shteteve anëtare të Bashkimit Evropian (29 maj 2000) parashtron kushtet për ngritjen e një Grupi të Përbashkët Hetimor (GPH).</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i thekson që një GPH mund të ngrihet kur:</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Hetimet e një shteti anëtar për veprat penale kërkojnë hetime të vështira që kanë lidhje me shtetet e tjera anëta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Një numër Shtetesh Anëtare po kryejnë hetime për veprat penale në të cilat rrethanat e çështjes kërkojnë veprim të koordinuar dhe të bashkërenduar në Shtetet Anëtare të përfshira.</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rijimi i një GPH-je do të materializohet me nënshkrimin e një Protokolli nga autoritetet gjyqësore të Shteteve Anëtare përkatës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y dokument do të krijojë një numër të caktuar marrëveshjesh, si për sa kohë krijohet GPH, kostot dhe shpenzimet, kalendarin e vlerësimit të GPH-së si gjatë dhe pas operacionit etj. </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nëtarët e GPH-së mund të kenë një gamë të gjerë të kompetencave hetuese. Ata mund:</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regjistrojnë vepra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marrin masa hetimo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ndihmojnë në marrjen e masave hetimo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vazhdojnë ose të ndihmojnë vazhdimin e mbikëqyrjes dhe infiltrimev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a gjithashtu do të kenë juridiksion në të gjithë territorin e Shteteve Anëtare që janë të interesuar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7C69-E93D-426A-92E7-BD22AE8177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55840" y="504720"/>
            <a:ext cx="3362400" cy="2521080"/>
          </a:xfrm>
          <a:prstGeom prst="rect">
            <a:avLst/>
          </a:prstGeom>
          <a:ln w="0">
            <a:noFill/>
          </a:ln>
        </p:spPr>
      </p:sp>
      <p:sp>
        <p:nvSpPr>
          <p:cNvPr id="18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800" spc="-1" strike="noStrike" u="sng">
                <a:solidFill>
                  <a:srgbClr val="000000"/>
                </a:solidFill>
                <a:uFillTx/>
                <a:latin typeface="Calibri"/>
              </a:rPr>
              <a:t>Evidentoni ndonjë kërkesë specifike konfidencialiteti</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Është shumë e rëndësishme që të specifikohen kërkesat e konfidencialitetit sepse shumë kompani do t'ia japin autoriteteve të zbatimit të ligjit informacionin por gjithashtu do ta konsiderojnë detyrë dhe të drejtën e tyre për të informuar klientin se kanë transmetuar të dhëna në lidhje me ta.</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Përcaktoni dhe specifikoni nivelin e urgjencës në ekzekutimin e kërkesës si dhe afatet kohor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fatet kohore, edhe pse shumë specifike, nuk do të respektohen domosdoshmërisht, sepse kërkesat NNJ domosdoshmërisht kërkojnë kohë.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psioni më i mirë për zbatimin e ligjit do të jetë gjithmonë ngrirja e të dhënave (Konventa e Budapestit, e cila do të diskutohet më vonë) dhe pastaj dërgimi i një kërkese për NNJ për të marrë të dhënat që janë ngrirë.</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Pse kërkojnë kaq shumë kohë kërkesat për NNJ?</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siç është diskutuar më parë, do të jetë e nevojshme të bëni përmbledhjen e çështjes, të gjeni dispozitat ligjore kombëtare të zbatueshme, etj.</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më pas do të duhet të përktheni kërkesën,</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dërgimi dhe pranimi i kërkesës mund të jetë një procedurë e gjatë: kërkesa për NNJ mund të duhet të dërgohet nëpërmjet kanaleve specifike diplomatike ose nga ministria e drejtësisë në ministrinë e drejtësisë, para se të dorëzohet së fundi tek autoriteti kompetent i zbatimit të ligjit ose autoriteti gjyqësor.</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jo vështirësi e fundit nuk do të ekzistojë nëse vendi juaj ka marrëveshje specifike dypalëshe, e cila përmban dispozita kundërshtuese.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Kjo gjithashtu nuk zbatohet për shtetet anëtare të Bashkimit Europian, të cilët mund të transmetojnë drejtpërdrejt kërkesat për NNJ / EIO nga autoriteti gjyqësor tek autoriteti gjyqësor kompetent (për shembull nga një prokuror në Francë në një gjykatë në Gjermani): neni 4 i Konventës së 29 majit 2000 dhe nenin 7 të Direktivës së vitit 2014 lidhur me Urdhrin Evropian të Hetimeve në Çështjet Penal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Identifikim i duhur dhe sa më i saktë që të jetë e mundur i të dyshuarv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4A63-833B-40AC-AA69-EF9D715F89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55840" y="504720"/>
            <a:ext cx="3362400" cy="2521080"/>
          </a:xfrm>
          <a:prstGeom prst="rect">
            <a:avLst/>
          </a:prstGeom>
          <a:ln w="0">
            <a:noFill/>
          </a:ln>
        </p:spPr>
      </p:sp>
      <p:sp>
        <p:nvSpPr>
          <p:cNvPr id="18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qenëse kërkesat për NNJ kërkojnë kohë për të gjitha palët, është e rëndësishme që të vendosen prioritete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timet për krimet kibernetike mund t'ju çojnë shumë lehtë jashtë vendit dhe do të ishte shumë kundërproduktive të dërgoni një kërkesë për NNJ për çdo rast të kriminalitetit kibernetik që hetoni.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Është e rëndësishme që gjithmonë të mbani parasysh kritere të tilla s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Sa e rëndë është vepra (p.sh. pornografia e fëmijëve ose terrorizm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shuma e dëmit financiar të shkaktua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numri i viktimav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Prishja e "rendit publik" (p.sh. hyrja e paautorizuar në një një faqe qeveritare ose spiunazhi industrial),</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rethanat në të cilat është kryer vepra (për shembull, krimi i organizuar).</a:t>
            </a:r>
            <a:endParaRPr b="0" lang="en-US" sz="1000" spc="-1" strike="noStrike">
              <a:solidFill>
                <a:srgbClr val="000000"/>
              </a:solidFill>
              <a:latin typeface="Calibri"/>
            </a:endParaRPr>
          </a:p>
          <a:p>
            <a:pPr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ë fundi, shumë kërkesa për NNJ do të dërgohen në Shtetet e Bashkuara të Amerikës, ku janë të vendosura shumica e ofruesve të shërbimeve të telekomunikacionit (FACEBOOK, GOOGLE, TWITTER etj.). Meqenëse ky vend pranon kaq shumë kërkesa në këtë çështje të veçantë, është e sigurt të supozohet se vetëm ato kërkesa që lidhen me llojet më serioze të veprave penale do të marrin trajtim prioritar. Sistemi gjyqësor i Shteteve të Bashkuara, bazuar në të drejtën e zakonshme, do të kërkojë gjithashtu një përmbledhje më të gjerë të çështjes me qëllim që të përcaktojë ekzistencën e shkakut të mundshë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A6DA-1DFF-4414-9F0E-E74AE62A18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55840" y="504720"/>
            <a:ext cx="3362400" cy="2521080"/>
          </a:xfrm>
          <a:prstGeom prst="rect">
            <a:avLst/>
          </a:prstGeom>
          <a:ln w="0">
            <a:noFill/>
          </a:ln>
        </p:spPr>
      </p:sp>
      <p:sp>
        <p:nvSpPr>
          <p:cNvPr id="18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ikimi i pikave të përshtatshme të kontaktit në vendet e tjera</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Është e rëndësishme të identifikohen pikat e duhura të kontaktit në vendet e tjera që do të lejojnë agjentët kombëtarë të zbatimit të ligjit dhe autoritetet gjyqësore që të ngrijnë dhe / ose të marrin prova digjitale menjëherë.</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regullat e mbajtjes së të dhënave ndryshojnë shumë nga vendi në vend në varësi të ligjit të tyre kombëtar në këtë çështje, duke filluar nga ditët, javët në vite .... Kjo është arsyeja pse është kaq thelbësore të ndërmerren veprime të menjëhershme për të siguruar të dhënat e nevojshme digjital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Gjendja e ruajtjes së të dhënave në Evropë është veçanërisht e paqëndrueshme pasi një vendim i kohëve të fundit i Gjykatës së Drejtësisë të Bashkimit Europian ka shfuqizuar të ashtuquajturën direktivë për "mbajtjen e të dhënave". Sipas Direktivës, Shtetet Anëtare ishin të detyruara të ruanin të dhënat e telekomunikimit të qytetarëve për një minimum prej gjashtë muaj dhe më së shumti për dy vjet. Leja për të aksesuar informacionin mbështetej në një vendim të mëvonshëm të gjykatës.</a:t>
            </a:r>
            <a:r>
              <a:rPr b="0" lang="en-US" sz="600" spc="-1" strike="noStrike">
                <a:solidFill>
                  <a:srgbClr val="000000"/>
                </a:solidFill>
                <a:latin typeface="Calibri"/>
              </a:rPr>
              <a:t> </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ë 8 prill 2014, Gjykata e Drejtësisë e Bashkimit Evropian e shpalli direktivën të pavlefshme në përgjigje të një rasti të paraqitur nga Digital Rights Ireland kundër autoriteteve irlandeze dhe të tjerëve. U vendos se direktiva shkelte parimet e kufizimit të qëllimit dhe proporcionalitetit dhe ishte në kundërshtim me të drejtat individuale të privatësisë.</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igjet dhe propozimet e tjera të BE-së që mund të jenë të cenueshme për tu kundërshtuar pas vendimit të gjykatës janë draft-direktiva e BE-së për përpunimin e të dhënave nga autoritetet ligjzbatuese, e cila po negociohet së bashku me një rregullore të BE-së për mbrojtjen e të dhënave, një sistem për ndjekjen e financimit të terrorizmit evropian, rregulla për aksesin nga qeveritë në bazën e të dhënave të zbatimit të ligjit Eurodac të gjurmëve të gishtërinjve të azilkërkuesve dhe propozimet për një sistem hyrje-daljeje për të gjetur udhëtarët që kalojnë kufijtë e BE.</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a i përket efektit të drejtpërdrejtë në ligjet kombëtare të miratuara për zbatimin e Direktivës së Ruajtjes së të Dhënave, vendet e BE-së janë përgjigjur ndryshe ndaj vendimit të gjykatës. Autoritetet e mbrojtjes së të dhënave në shtetet anëtare përgjithësisht kanë thënë se vendimet se si të procedohet i takon të merren nga ligjvënësit.</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egjithatë, statusi i saktë i rregullave të mbajtjes së të dhënave në vendet evropiane është disi i pasigurt si një efekt i këtij vendimi. Prandaj mund të jetë gjithashtu e nevojshme të reagohet menjëherë për të ngrirë të dhënat, duke përdorur dispozitat ligjore të Konventës së Budapestit, edhe kur kemi të bëjmë me Shtetet Anëtare të Bashkimit Europia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Vendosja e kontakteve joformale me homologët e duhur para se të paraqiten kërkesat zyrtare për NNJ</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und të jetë interesante të kontaktoni paraprakisht homologët përkatës për t'i informuar ata se do të dërgoni një kërkesë për NNJ. Kjo do:</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a lejojë homologun tuaj të identifikojë dhe parashikojë kërkesën tuaj për NNJ,</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ju lejojë të keni një shkëmbim të parë jozyrtar me homologun tuaj për përmbajtjen e çështjes dhe dëshmitë që ju nevojite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lejojë përfundimisht homologun tuaj që të fillojë të punojë për këtë çështje paraprakisht. </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ër të identifikuar homologun përkatës, mund të jetë e dobishme të kontaktoni ambasadën tuaj jashtë vendit ku ka mundësi të jetë agjenti ligjzbatues ose autoriteti gjyqësor dhe do të jetë në gjendje t'ju japë informacion. Rrjeti Gjyqësor Europian (EJN) në çështjet penale mund të ofrojë informacione dhe detaje të kontakti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1689-A9A8-4E8F-BFBA-B71EB987AA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55840" y="504720"/>
            <a:ext cx="3362400" cy="2521080"/>
          </a:xfrm>
          <a:prstGeom prst="rect">
            <a:avLst/>
          </a:prstGeom>
          <a:ln w="0">
            <a:noFill/>
          </a:ln>
        </p:spPr>
      </p:sp>
      <p:sp>
        <p:nvSpPr>
          <p:cNvPr id="19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u="sng">
                <a:solidFill>
                  <a:srgbClr val="000000"/>
                </a:solidFill>
                <a:uFillTx/>
                <a:latin typeface="Calibri"/>
              </a:rPr>
              <a:t>Juridiksion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Një nga çështjet kryesore në çështjet që lidhen me krimin kibernetik dhe provat elektronike është identifikimi i duhur i juridiksionit. Faktorë të ndryshëm janë të rëndësishëm gjatë përcaktimit të juridiksionit, duke përfshirë:</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prov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keqbërës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viktim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Pronësinë e të dhën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fizike të shërbimofrues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Rezidencën e ligjshme të shërbimofrues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iç është vërejtur në punën e bërë nga Grupi i Provave të hostuara në Internet, këto sfida janë veçanërisht të rëndësishme duke pasur parasysh natyrën e të dhënave të hostuara në Interne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u="sng">
                <a:solidFill>
                  <a:srgbClr val="000000"/>
                </a:solidFill>
                <a:uFillTx/>
                <a:latin typeface="Calibri"/>
              </a:rPr>
              <a:t>Zonat kohor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Bashkëpunimi ndërkombëtar kërkon një mirëkuptim se një shtet, nga i cili mund të kërkohet bashkëpunimi, mund të jetë në një zonë tjetër kohore, e cila mund të sjellë vonesa në marrjen e përgjigjeve ndaj kërkesave ose, në raste të caktuara, edhe në bërjen e kërkesave. Disa juridiksione kanë pika kontakti 24/7 që mund të jenë të autorizuara për të marrë dhe për t'u përgjigjur me shpejtësi kërkesave urgjente. Megjithatë, juridiksionet e tjera mund të mos kenë as akses në telefonata ndërkombëtare, duke e bërë të vështirë dhe të shtrenjtë bashkëpunim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F4A2-CD83-4870-8DB1-3A901A671C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55840" y="504720"/>
            <a:ext cx="3362400" cy="2521080"/>
          </a:xfrm>
          <a:prstGeom prst="rect">
            <a:avLst/>
          </a:prstGeom>
          <a:ln w="0">
            <a:noFill/>
          </a:ln>
        </p:spPr>
      </p:sp>
      <p:sp>
        <p:nvSpPr>
          <p:cNvPr id="19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Përkthimi i dokumente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onventat bilaterale dhe multilaterale zakonisht përcaktojnë se në cilën gjuhë mund të shkëmbehen kërkesat e NNJ  dhe nëse është i nevojshëm përkthimi apo jo. Për shembull, neni 5 i Konventës për ndihmën e ndërsjellë juridike ndërmjet shteteve anëtare të Bashkimit Evropian (29 maj 2000) parashikon që nëse ka arsye të besohet se i adresuari nuk e kupton gjuhën e një dokumenti, duhet të përkthehet dokumenti ose së paku pasazhet e rëndësishme të tij.</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qenëse hetimet kibernetike mund të nënkuptojnë shumë bashkëpunime ndërkombëtare, është e rëndësishme të identifikohen përkthyesit, puna e të cilëve e njihni është e mirë dhe që të cilët të jenë gjithashtu në gjendje të përkthejnë disa nga termet më teknike që nganjëherë paraqiten në kërkesat e NNJ kundër krimit kibernetik.</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Barrierat e Gjuhë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umë kërkesa për NNJ specifikojnë se në cilat gjuhë mund të komunikojnë zyrtarët përkatës të zbatimit të ligjit dhe prokurorët.</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ëse jeni duke komunikuar me telefon, mund të jetë interesante të përgatitni paraprakisht atë që ju duhet të thoni dhe kushtet teknike ose ligjore të përshtatshm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donjëherë mund të jetë edhe më e lehtë për të kryer shkëmbime në një gjuhë të huaj me postë elektronik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FD54-3B96-4DCC-BB87-F51403C3E7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Vonesa për shkak të niveleve të ndryshme të rëndësisë së hetimeve të krimit në Internet në vende të ndryshm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Jo të gjitha vendet kanë një strukturë të specializuar të zbatimit të ligjit ose juridike që është e trajnuar dhe e pajisur për të trajtuar hetimet kibernetik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Sigurimi i mbështetjes teknike dhe profesional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Mbështetja teknike dhe profesionale mund të sigurohet duke qenë mjaftueshëm i saktë kur bëni një kërkesë për NNJ dhe detajoni saktësisht se cilat akte hetimore duhet të bëni dhe cilat rezultate kërkoni (shih slajdin 55). Këto pyetje mund të evokohen edhe gjatë kontakteve të drejtpërdrejta dhe joformale ndërmjet oficerëve të zbatimit të ligjit dhe prokurorëve.</a:t>
            </a: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Kjo mbështetje mund të sigurohet në një kontekst më formal duke nënshkruar një marrëveshje të përbashkët hetimi (GPH) (shih slajdin 61).</a:t>
            </a: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ë përgjithësi, është ide e mirë që të gjitha kërkesat e NNJ të jenë akte hetimore që në asnjë rast nuk mund të bëni vetë. Për shembull, nëse ju duhet të konfiskoni dhe analizoni një kompjuter, opsioni më i mirë është t’i kërkoni autoriteteve të kërkuara ligjzbatuese që të konfiskojnë kompjuterin përkatës dhe ta dërgojnë atë. Ju pastaj mund të kërkoni nga zyrtarët tuaj të zbatimit të ligjit ose ekspertët për që të analizojnë kompjuterin dhe janë të sigurt se procedurat për ta bërë këtë do të jenë në përputhje me legjislacionin tuaj kombëtar.</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 shembull, mund të jetë interesante të shfrytëzohen forma më tradicionale të hetimit, të tilla si marrja e deklaratave të dëshmitarëve ose dokumenteve bankare dhe provave financiare. (slajdet 56 dhe 57)</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rimi kibernetik mund të duket si botë virtuale, por njerëzit që kryejnë këto vepra e bëjnë këtë me të njëjtën motivim themelor si për çdo krim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djekja e “qarkullimit të parave" dhe përcaktimit të përfitimeve nga vepra penale është shpesh një nga mënyrat më të përshtatshme dhe më të thjeshta për të hetuar në mënyrë efikase veprat penale të krimit në Internet.</a:t>
            </a:r>
            <a:endParaRPr b="0" lang="en-US" sz="1200" spc="-1" strike="noStrike">
              <a:solidFill>
                <a:srgbClr val="000000"/>
              </a:solidFill>
              <a:latin typeface="Calibri"/>
            </a:endParaRPr>
          </a:p>
        </p:txBody>
      </p:sp>
      <p:sp>
        <p:nvSpPr>
          <p:cNvPr id="19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9E86-C428-4BA4-AD46-507EE0BC06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dytë të mësimit.</a:t>
            </a: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601B-26E5-47C1-AAAB-96FB47119CA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3255840" y="504720"/>
            <a:ext cx="3362400" cy="2521080"/>
          </a:xfrm>
          <a:prstGeom prst="rect">
            <a:avLst/>
          </a:prstGeom>
          <a:ln w="0">
            <a:noFill/>
          </a:ln>
        </p:spPr>
      </p:sp>
      <p:sp>
        <p:nvSpPr>
          <p:cNvPr id="15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EACF-DF3E-486D-8888-44A9AC49B9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8C3B0-EFDF-4EFC-AD8A-E2F3837B7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0F7F-4F66-4C18-8711-514D70674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4D790-6092-42C1-A6F4-60F2BFD54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A8EC5-E226-4E8C-8925-9C209AC46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6BE5F-F678-403F-AD1A-12B61E31A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9872-CCED-4B58-8E58-D100F1865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42585-BE03-4059-9A4B-BEBEEAC4A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F23A8-5701-4750-94C2-D95874E89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CC262-C10A-43C6-B6A2-700E62EE5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A8971-12AE-4642-836C-21075B58F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BECA6-D3DB-4DB6-BFDF-964DC470E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0CB6-A97E-409B-A314-B0BA2B31F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4366-CEE9-424F-AE5A-58CF1000541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BASHKËPUNIMI ND</a:t>
            </a:r>
            <a:r>
              <a:rPr b="0" lang="en-US" sz="4400" spc="-1" strike="noStrike">
                <a:solidFill>
                  <a:srgbClr val="000000"/>
                </a:solidFill>
                <a:latin typeface="Calibri"/>
              </a:rPr>
              <a:t>Ë</a:t>
            </a:r>
            <a:r>
              <a:rPr b="0" lang="en-US" sz="4000" spc="-1" strike="noStrike">
                <a:solidFill>
                  <a:srgbClr val="000000"/>
                </a:solidFill>
                <a:latin typeface="Calibri"/>
              </a:rPr>
              <a:t>RKOMB</a:t>
            </a:r>
            <a:r>
              <a:rPr b="0" lang="en-US" sz="4400" spc="-1" strike="noStrike">
                <a:solidFill>
                  <a:srgbClr val="000000"/>
                </a:solidFill>
                <a:latin typeface="Calibri"/>
              </a:rPr>
              <a:t>Ë</a:t>
            </a:r>
            <a:r>
              <a:rPr b="0" lang="en-US" sz="4000" spc="-1" strike="noStrike">
                <a:solidFill>
                  <a:srgbClr val="000000"/>
                </a:solidFill>
                <a:latin typeface="Calibri"/>
              </a:rPr>
              <a:t>T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ioni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a:t>
            </a:r>
            <a:r>
              <a:rPr b="1" lang="en-US" sz="2800" spc="-1" strike="noStrike">
                <a:solidFill>
                  <a:srgbClr val="000000"/>
                </a:solidFill>
                <a:latin typeface="Calibri"/>
              </a:rPr>
              <a:t>– </a:t>
            </a:r>
            <a:r>
              <a:rPr b="0" lang="en-US" sz="2800" spc="-1" strike="noStrike">
                <a:solidFill>
                  <a:srgbClr val="000000"/>
                </a:solidFill>
                <a:latin typeface="Calibri"/>
              </a:rPr>
              <a:t>parime të përgjithshme</a:t>
            </a:r>
            <a:endParaRPr b="0" lang="en-US" sz="2800" spc="-1" strike="noStrike">
              <a:solidFill>
                <a:srgbClr val="000000"/>
              </a:solidFill>
              <a:latin typeface="Calibri"/>
            </a:endParaRPr>
          </a:p>
        </p:txBody>
      </p:sp>
      <p:graphicFrame>
        <p:nvGraphicFramePr>
          <p:cNvPr id="77" name=""/>
          <p:cNvGraphicFramePr/>
          <p:nvPr/>
        </p:nvGraphicFramePr>
        <p:xfrm>
          <a:off x="468360" y="1781280"/>
          <a:ext cx="8064360" cy="4816440"/>
        </p:xfrm>
        <a:graphic>
          <a:graphicData uri="http://schemas.openxmlformats.org/drawingml/2006/table">
            <a:tbl>
              <a:tblPr/>
              <a:tblGrid>
                <a:gridCol w="3959280"/>
                <a:gridCol w="4105080"/>
              </a:tblGrid>
              <a:tr h="48164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enet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lët do të ofrojnë ndihmë të ndërsjellë për qëllimet e hetimeve ose procedimeve që kanë të bëjnë m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Krimin kibernetik (nenet 2-10)</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se për mbledhjen e </a:t>
                      </a:r>
                      <a:r>
                        <a:rPr b="0" lang="en-GB" sz="1800" spc="-1" strike="noStrike" u="sng">
                          <a:solidFill>
                            <a:srgbClr val="000000"/>
                          </a:solidFill>
                          <a:uFillTx/>
                          <a:latin typeface="Calibri"/>
                        </a:rPr>
                        <a:t>provave elektronike</a:t>
                      </a:r>
                      <a:r>
                        <a:rPr b="0" lang="en-GB" sz="1800" spc="-1" strike="noStrike">
                          <a:solidFill>
                            <a:srgbClr val="000000"/>
                          </a:solidFill>
                          <a:latin typeface="Calibri"/>
                        </a:rPr>
                        <a:t> të një vepre pen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enet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lët do të bashkëpunojnë reciprokisht për qëllimet e hetimeve dhe procedimeve: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 synimin e </a:t>
                      </a:r>
                      <a:r>
                        <a:rPr b="0" lang="en-GB" sz="1800" spc="-1" strike="noStrike" u="sng">
                          <a:solidFill>
                            <a:srgbClr val="000000"/>
                          </a:solidFill>
                          <a:uFillTx/>
                          <a:latin typeface="Calibri"/>
                        </a:rPr>
                        <a:t>konfiskimit të mjeteve dhe të ardhurave.</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ërkesat për: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nfiskimin e artikujve specifik</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se për pagesën e një shume parash që korrespondon me vlerën e të ardhurave</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ër ndihmë hetimor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he masa provizore me synim konfiskim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 </a:t>
            </a:r>
            <a:r>
              <a:rPr b="0" lang="en-US" sz="2800" spc="-1" strike="noStrike">
                <a:solidFill>
                  <a:srgbClr val="000000"/>
                </a:solidFill>
                <a:latin typeface="Calibri"/>
              </a:rPr>
              <a:t>masat provizore</a:t>
            </a:r>
            <a:endParaRPr b="0" lang="en-US" sz="2800" spc="-1" strike="noStrike">
              <a:solidFill>
                <a:srgbClr val="000000"/>
              </a:solidFill>
              <a:latin typeface="Calibri"/>
            </a:endParaRPr>
          </a:p>
        </p:txBody>
      </p:sp>
      <p:graphicFrame>
        <p:nvGraphicFramePr>
          <p:cNvPr id="79" name=""/>
          <p:cNvGraphicFramePr/>
          <p:nvPr/>
        </p:nvGraphicFramePr>
        <p:xfrm>
          <a:off x="468360" y="1773360"/>
          <a:ext cx="8064360" cy="4716360"/>
        </p:xfrm>
        <a:graphic>
          <a:graphicData uri="http://schemas.openxmlformats.org/drawingml/2006/table">
            <a:tbl>
              <a:tblPr/>
              <a:tblGrid>
                <a:gridCol w="3960720"/>
                <a:gridCol w="4103640"/>
              </a:tblGrid>
              <a:tr h="25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ajtja e menjëhershme e të dhënave të ruajtura në kompjuter, </a:t>
                      </a:r>
                      <a:endParaRPr b="0" lang="en-US" sz="18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joftimi i përshpejtuar i të dhënave të ruajtura të komunikimi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Ngrirja ose sekuestrimi, </a:t>
                      </a:r>
                      <a:r>
                        <a:rPr b="0" lang="en-US" sz="1800" spc="-1" strike="noStrike">
                          <a:solidFill>
                            <a:srgbClr val="000000"/>
                          </a:solidFill>
                          <a:latin typeface="Calibri"/>
                        </a:rPr>
                        <a:t>për parandalimin e çdo veprimi, transferte ose tjetërsimi të pasurisë dh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uron </a:t>
                      </a:r>
                      <a:r>
                        <a:rPr b="0" lang="en-US" sz="1800" spc="-1" strike="noStrike" u="sng">
                          <a:solidFill>
                            <a:srgbClr val="000000"/>
                          </a:solidFill>
                          <a:uFillTx/>
                          <a:latin typeface="Calibri"/>
                        </a:rPr>
                        <a:t>në mënyrë spontane të gjithë informacionin përkatës</a:t>
                      </a:r>
                      <a:r>
                        <a:rPr b="0" lang="en-US" sz="1800" spc="-1" strike="noStrike">
                          <a:solidFill>
                            <a:srgbClr val="000000"/>
                          </a:solidFill>
                          <a:latin typeface="Calibri"/>
                        </a:rPr>
                        <a:t> për masat provizo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12580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formacioni sponta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venta e Budapestit, Neni 26)</a:t>
                      </a:r>
                      <a:r>
                        <a:rPr b="0" lang="sl-SI" sz="1800" spc="-1" strike="noStrike">
                          <a:solidFill>
                            <a:srgbClr val="000000"/>
                          </a:solidFill>
                          <a:latin typeface="Calibri"/>
                        </a:rPr>
                        <a:t> </a:t>
                      </a:r>
                      <a:r>
                        <a:rPr b="0" lang="en-US" sz="1800" spc="-1" strike="noStrike">
                          <a:solidFill>
                            <a:srgbClr val="000000"/>
                          </a:solidFill>
                          <a:latin typeface="Calibri"/>
                        </a:rPr>
                        <a:t>dhe (Konventa e Varshavës, Neni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nda kufijve të ligjit të brendshëm dhe pa kërkesë paraprake, një Palë mund t’i ofrojë një Pale tjetër informacion, i cili është marrë në kuadrin e hetimeve të veta kur kjo e konsideron se dhënia e një informacioni të tillë mund ta ndihmojë Palën marrëse </a:t>
                      </a:r>
                      <a:r>
                        <a:rPr b="1" lang="en-US" sz="1800" spc="-1" strike="noStrike">
                          <a:solidFill>
                            <a:srgbClr val="000000"/>
                          </a:solidFill>
                          <a:latin typeface="Calibri"/>
                        </a:rPr>
                        <a:t>në fillimin ose kryerjen e hetimeve ose gjykimeve në lidhje me veprat penale</a:t>
                      </a:r>
                      <a:r>
                        <a:rPr b="0" lang="en-US" sz="1800" spc="-1" strike="noStrike">
                          <a:solidFill>
                            <a:srgbClr val="000000"/>
                          </a:solidFill>
                          <a:latin typeface="Calibri"/>
                        </a:rPr>
                        <a:t> të përcaktuara në këtë Konventë ose mund të çojë në bërjen e një kërkese për bashkëpunim nga kjo Palë sipas këtij kapitulli.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 Ndihma hetimore</a:t>
            </a:r>
            <a:endParaRPr b="0" lang="en-US" sz="2800" spc="-1" strike="noStrike">
              <a:solidFill>
                <a:srgbClr val="000000"/>
              </a:solidFill>
              <a:latin typeface="Calibri"/>
            </a:endParaRPr>
          </a:p>
        </p:txBody>
      </p:sp>
      <p:graphicFrame>
        <p:nvGraphicFramePr>
          <p:cNvPr id="81" name=""/>
          <p:cNvGraphicFramePr/>
          <p:nvPr/>
        </p:nvGraphicFramePr>
        <p:xfrm>
          <a:off x="468360" y="1773360"/>
          <a:ext cx="8064360" cy="4816440"/>
        </p:xfrm>
        <a:graphic>
          <a:graphicData uri="http://schemas.openxmlformats.org/drawingml/2006/table">
            <a:tbl>
              <a:tblPr/>
              <a:tblGrid>
                <a:gridCol w="3959280"/>
                <a:gridCol w="4105080"/>
              </a:tblGrid>
              <a:tr h="4816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përsa i takon kompetencave hetimor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rja tek të dhënat kompjuterike të regjistruara;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rja ndër-kufitare tek të dhënat kompjuterike të regjistruara me pëlqimin ose kur janë të hapura për publiku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në mbledhjen në kohë reale të të dhënave të trafiku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përsa i takon interceptimit të të dhënave të përmbajtj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lët do të japin ndihmë në identifikimin dhe gjetjen e mjeteve dhe të ardhurave, që përfshin sigurimin e provave në lidhje me ekzistencën, vendndodhjen ose lëvizjen, natyrën, statusin juridik ose vlerën e pasurisë së sipërpërmendur.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jë ndihmë e tillë përfshin edhe kërkesat pë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cion për llogaritë bankar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aksionet bankare dhe</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min e transaksioneve bankare dh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cionin sponta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a:t>
            </a:r>
            <a:r>
              <a:rPr b="1" lang="sl-SI" sz="2800" spc="-1" strike="noStrike">
                <a:solidFill>
                  <a:srgbClr val="000000"/>
                </a:solidFill>
                <a:latin typeface="Calibri"/>
              </a:rPr>
              <a:t>- </a:t>
            </a:r>
            <a:r>
              <a:rPr b="0" lang="en-US" sz="2800" spc="-1" strike="noStrike">
                <a:solidFill>
                  <a:srgbClr val="000000"/>
                </a:solidFill>
                <a:latin typeface="Calibri"/>
              </a:rPr>
              <a:t>konfiskimi</a:t>
            </a:r>
            <a:endParaRPr b="0" lang="en-US" sz="2800" spc="-1" strike="noStrike">
              <a:solidFill>
                <a:srgbClr val="000000"/>
              </a:solidFill>
              <a:latin typeface="Calibri"/>
            </a:endParaRPr>
          </a:p>
        </p:txBody>
      </p:sp>
      <p:graphicFrame>
        <p:nvGraphicFramePr>
          <p:cNvPr id="83" name=""/>
          <p:cNvGraphicFramePr/>
          <p:nvPr/>
        </p:nvGraphicFramePr>
        <p:xfrm>
          <a:off x="468360" y="1773360"/>
          <a:ext cx="8064360" cy="3717720"/>
        </p:xfrm>
        <a:graphic>
          <a:graphicData uri="http://schemas.openxmlformats.org/drawingml/2006/table">
            <a:tbl>
              <a:tblPr/>
              <a:tblGrid>
                <a:gridCol w="3959280"/>
                <a:gridCol w="4105080"/>
              </a:tblGrid>
              <a:tr h="3717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a e Varshavë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ne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ni 23</a:t>
                      </a:r>
                      <a:r>
                        <a:rPr b="0" lang="sl-SI" sz="1800" spc="-1" strike="noStrike">
                          <a:solidFill>
                            <a:srgbClr val="000000"/>
                          </a:solidFill>
                          <a:latin typeface="Calibri"/>
                        </a:rPr>
                        <a:t>/5: </a:t>
                      </a:r>
                      <a:r>
                        <a:rPr b="0" lang="en-US" sz="1800" spc="-1" strike="noStrike">
                          <a:solidFill>
                            <a:srgbClr val="000000"/>
                          </a:solidFill>
                          <a:latin typeface="Calibri"/>
                        </a:rPr>
                        <a:t>masat ekuivalente me konfiskimin – sanksione jo penale </a:t>
                      </a:r>
                      <a:r>
                        <a:rPr b="0" lang="en-US" sz="1800" spc="-1" strike="noStrike" u="sng">
                          <a:solidFill>
                            <a:srgbClr val="000000"/>
                          </a:solidFill>
                          <a:uFillTx/>
                          <a:latin typeface="Calibri"/>
                        </a:rPr>
                        <a:t>(konfiskim jo i bazuar tek dënimi).</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regullat e ndarjes së aseteve</a:t>
                      </a:r>
                      <a:r>
                        <a:rPr b="0" lang="sl-SI" sz="1800" spc="-1" strike="noStrike">
                          <a:solidFill>
                            <a:srgbClr val="000000"/>
                          </a:solidFill>
                          <a:latin typeface="Calibri"/>
                        </a:rPr>
                        <a:t> (</a:t>
                      </a:r>
                      <a:r>
                        <a:rPr b="0" lang="en-US" sz="1800" spc="-1" strike="noStrike" u="sng">
                          <a:solidFill>
                            <a:srgbClr val="000000"/>
                          </a:solidFill>
                          <a:uFillTx/>
                          <a:latin typeface="Calibri"/>
                        </a:rPr>
                        <a:t>kompensimi ndaj viktimave, pronarëve të ligjshëm</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fiskim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kzekutimi i një urdhri konfiskimi</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se të dorëzojë një kërkesë tek autoritetet kompetente për </a:t>
                      </a:r>
                      <a:r>
                        <a:rPr b="0" lang="en-US" sz="1800" spc="-1" strike="noStrike" u="sng">
                          <a:solidFill>
                            <a:srgbClr val="000000"/>
                          </a:solidFill>
                          <a:uFillTx/>
                          <a:latin typeface="Calibri"/>
                        </a:rPr>
                        <a:t>të marrë një urdhër konfiskimi</a:t>
                      </a:r>
                      <a:r>
                        <a:rPr b="0" lang="en-US" sz="1800" spc="-1" strike="noStrike">
                          <a:solidFill>
                            <a:srgbClr val="000000"/>
                          </a:solidFill>
                          <a:latin typeface="Calibri"/>
                        </a:rPr>
                        <a:t> dhe për ta ekzekutuar at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uke përfshirë kërkesën për të paguar një shumë parash që korrespondon me vlerën e të ardhurave, ose konfiskimin e një objekti specifik të pasurisë.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85"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rjeti 24/7 (Neni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ecila Palë cakton një pikë kontakti të disponueshme 24/7 për ndihmën e menjëhershme për qëllime të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Hetimeve ose procedimeve për veprat penale që lidhen me të dhënat dhe sistemet kompjuterike,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se për grumbullimin e provave elektronike të një vepre penale.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jë ndihmë e tillë duhet të përfshijë lehtësimin, ose kryerjen e drejtëpërdrejtë të masave të mëposhtm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frimi i konsulencës teknik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Calibri"/>
                        </a:rPr>
                        <a:t>Ruajtja e të dhënave </a:t>
                      </a:r>
                      <a:r>
                        <a:rPr b="0" lang="en-AU" sz="1600" spc="-1" strike="noStrike">
                          <a:solidFill>
                            <a:srgbClr val="000000"/>
                          </a:solidFill>
                          <a:latin typeface="Calibri"/>
                        </a:rPr>
                        <a:t>(Neni 29 dhe 30);</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Calibri"/>
                        </a:rPr>
                        <a:t>Grumbullimi i provave</a:t>
                      </a:r>
                      <a:r>
                        <a:rPr b="0" lang="en-AU" sz="1600" spc="-1" strike="noStrike">
                          <a:solidFill>
                            <a:srgbClr val="000000"/>
                          </a:solidFill>
                          <a:latin typeface="Calibri"/>
                        </a:rPr>
                        <a: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igurimi i informacionit ligjor,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Dhe gjetja e vendndodhjes së të dyshuarv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ashkëpunimi NJHF (Nenet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JHF-të shkëmbejnë, në mënyrë spontane ose me kërkesë, çdo informacion të aksesueshëm që mund të jetë i rëndësishëm</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ër përpunimin ose analizën e informacionit os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ër hetimin nga NJHF-të të transaksioneve financaire </a:t>
                      </a:r>
                      <a:r>
                        <a:rPr b="0" lang="en-AU" sz="1600" spc="-1" strike="noStrike" u="sng">
                          <a:solidFill>
                            <a:srgbClr val="000000"/>
                          </a:solidFill>
                          <a:uFillTx/>
                          <a:latin typeface="Calibri"/>
                        </a:rPr>
                        <a:t>në lidhje me pastrimin e parave</a:t>
                      </a:r>
                      <a:r>
                        <a:rPr b="0" lang="en-AU" sz="1600" spc="-1" strike="noStrike">
                          <a:solidFill>
                            <a:srgbClr val="000000"/>
                          </a:solidFill>
                          <a:latin typeface="Calibri"/>
                        </a:rPr>
                        <a:t> dhe personat fizik dhe juridik të përfshirë.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Kompetenca e NjHF për të shtyrë transaksionet e dyshim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KAT KOMBëTARE Të KONTAKTIT</a:t>
            </a:r>
            <a:r>
              <a:rPr b="1" lang="sl-SI"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87" name=""/>
          <p:cNvGraphicFramePr/>
          <p:nvPr/>
        </p:nvGraphicFramePr>
        <p:xfrm>
          <a:off x="250920" y="1916280"/>
          <a:ext cx="8713800" cy="4176720"/>
        </p:xfrm>
        <a:graphic>
          <a:graphicData uri="http://schemas.openxmlformats.org/drawingml/2006/table">
            <a:tbl>
              <a:tblPr/>
              <a:tblGrid>
                <a:gridCol w="4278240"/>
                <a:gridCol w="443556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i EGMONT (NJH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Rrjeti 24/7</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Ndihma e Ndërsjellë Juridik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Autoriteti Qendror Kombëtar - Ministria e Drejtësis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 mundësojnë bashkëpunimin e drejtpërdrejtë (prokurori-prokurori, gjyqtar-gjyqtar</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tare lehtësojnë</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P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hetimet paralele</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imin e procedimev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are për NNJ</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89" name=""/>
          <p:cNvSpPr txBox="1"/>
          <p:nvPr/>
        </p:nvSpPr>
        <p:spPr>
          <a:xfrm>
            <a:off x="468360" y="2205000"/>
            <a:ext cx="8229600" cy="4353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iveli i njohurive dhe përvojës së punonjësve të policisë </a:t>
            </a:r>
            <a:r>
              <a:rPr b="0" lang="en-GB" sz="2400" spc="-1" strike="noStrike">
                <a:solidFill>
                  <a:srgbClr val="000000"/>
                </a:solidFill>
                <a:latin typeface="Calibri"/>
              </a:rPr>
              <a:t>dhe prokurorëve gjatë raportimit dhe paraqitjes së akuzave ndaj tyre mund të jetë me rëndësi vendimtare për kuptimin e duhur të çështjes dhe për ndërmarrjen e masave të duhura dhe me kohë për të ruajtur dhe marrë dëshm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nonjësit e policisë dhe prokurorët mund të kenë nevojë të kërkojnë ndihmë shtesë kur është e nevojshme, si nga brenda "shtëpisë" ashtu edhe nga jashtë, duke përfshirë bashkëpunimin dhe kontributin e viktimës i cili natyrisht do të ketë interes në zgjidhjen e rast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2286-1578-4A7B-94E2-8F4637ECB9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2" name=""/>
          <p:cNvSpPr txBox="1"/>
          <p:nvPr/>
        </p:nvSpPr>
        <p:spPr>
          <a:xfrm>
            <a:off x="468360" y="2060280"/>
            <a:ext cx="8229600" cy="478620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ërcaktimi i </a:t>
            </a:r>
            <a:r>
              <a:rPr b="1" lang="en-GB" sz="2400" spc="-1" strike="noStrike">
                <a:solidFill>
                  <a:srgbClr val="000000"/>
                </a:solidFill>
                <a:latin typeface="Calibri"/>
              </a:rPr>
              <a:t>instrumentit ligjor që përdoret për të kërkuar ndihmë</a:t>
            </a:r>
            <a:r>
              <a:rPr b="0" lang="en-GB" sz="2400" spc="-1" strike="noStrike">
                <a:solidFill>
                  <a:srgbClr val="000000"/>
                </a:solidFill>
                <a:latin typeface="Calibri"/>
              </a:rPr>
              <a:t> - traktat, konventë ose instrument tjetër bashkëpunimi.</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qartë i atij që po kryen hetimin / ndjekjen penale. </a:t>
            </a:r>
            <a:r>
              <a:rPr b="0" lang="en-GB" sz="2400" spc="-1" strike="noStrike">
                <a:solidFill>
                  <a:srgbClr val="000000"/>
                </a:solidFill>
                <a:latin typeface="Calibri"/>
              </a:rPr>
              <a:t>Jepni të gjitha detajet e nevojshme të kontaktit dhe mjetet e preferuara të komunikimit.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ërmbledhja e çështjes </a:t>
            </a:r>
            <a:r>
              <a:rPr b="0" lang="en-GB" sz="2400" spc="-1" strike="noStrike">
                <a:solidFill>
                  <a:srgbClr val="000000"/>
                </a:solidFill>
                <a:latin typeface="Calibri"/>
              </a:rPr>
              <a:t>- siguroni një përshkrim të hollësishëm të çështjes në hetim ose ndjekje, duke përfshirë një përmbledhje të provave që mbështesin hetimin / ndjekjen penale. Shpjegoni arsyetimin për dëshmi dhe veprime që kërkohen në lidhje me hetimin e vazhdueshëm. </a:t>
            </a:r>
            <a:endParaRPr b="0" lang="en-US" sz="24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580F-355B-4354-B86A-03C2C5E160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052640"/>
            <a:ext cx="822960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5" name=""/>
          <p:cNvSpPr txBox="1"/>
          <p:nvPr/>
        </p:nvSpPr>
        <p:spPr>
          <a:xfrm>
            <a:off x="468360" y="3213000"/>
            <a:ext cx="8229600" cy="32623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a ndaj dispozitave ligjore kombëtare në fuqi</a:t>
            </a:r>
            <a:r>
              <a:rPr b="0" lang="en-GB" sz="2400" spc="-1" strike="noStrike">
                <a:solidFill>
                  <a:srgbClr val="000000"/>
                </a:solidFill>
                <a:latin typeface="Calibri"/>
              </a:rPr>
              <a:t>– teksti i plotë i të gjitha dispozitave përkatëse ligjore të hetimit / ndjekjes ligjore, duke përfshirë dispozitat e dënimit në fuqi.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saktë i ndihmës që kërkohet </a:t>
            </a:r>
            <a:r>
              <a:rPr b="0" lang="en-GB" sz="2400" spc="-1" strike="noStrike">
                <a:solidFill>
                  <a:srgbClr val="000000"/>
                </a:solidFill>
                <a:latin typeface="Calibri"/>
              </a:rPr>
              <a:t>– çfarë po kërkon saktësisht. </a:t>
            </a:r>
            <a:endParaRPr b="0" lang="en-US" sz="24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1657-3135-446D-9E94-274154FD45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8" name=""/>
          <p:cNvSpPr txBox="1"/>
          <p:nvPr/>
        </p:nvSpPr>
        <p:spPr>
          <a:xfrm>
            <a:off x="611280" y="2244600"/>
            <a:ext cx="8229600" cy="38498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deklarimin/dëshminë e dëshmitari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Vendndodhjen e pers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regullat procedural kombëtare që lidhen me dëshmitarin</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cionin specifik dhe listën e pyetjeve të kërkuara nga dëshmitari</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AFD5-370E-4FFE-8980-686DD1BC73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Shpjegoni rëndësinë e bashkëpunimit ndërkombëtar në shënjestrimin e të ardhurave të krimit në Interne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Shpjegoni përparësitë e kombinimit të rrugëve të bashkëpunimit ndërkombëtar në fushën e krimit kibernetik dhe të provave elektronike, si dhe hetimeve financiare dhe pastrimit të parav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Dalloni ndërmjet bashkëpunimit ndërkombëtar për shkëmbimin e informacionit dhe atij për ndihmën e ndërsjellë juridik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Rendisni rrjetet përkatëse ndërkombëtare dhe organizatat për shkëmbimin e informacioni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Përshkruani natyrën dhe qëllimin e ndihmës së ndërsjellë juridike (NNJ).</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Prezantoni instrumentet ligjore ndërkombëtare përkatës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ikoni dispozitat përkatëse të konventave të Budapestit dhe Varshavës </a:t>
            </a:r>
            <a:r>
              <a:rPr b="0" lang="sq-AL" sz="2000" spc="-1" strike="noStrike">
                <a:solidFill>
                  <a:srgbClr val="000000"/>
                </a:solidFill>
                <a:latin typeface="Calibri"/>
              </a:rPr>
              <a:t>për të qenë </a:t>
            </a:r>
            <a:r>
              <a:rPr b="0" lang="sl-SI" sz="2000" spc="-1" strike="noStrike">
                <a:solidFill>
                  <a:srgbClr val="000000"/>
                </a:solidFill>
                <a:latin typeface="Calibri"/>
              </a:rPr>
              <a:t>në gjendje </a:t>
            </a:r>
            <a:r>
              <a:rPr b="0" lang="en-US" sz="2000" spc="-1" strike="noStrike">
                <a:solidFill>
                  <a:srgbClr val="000000"/>
                </a:solidFill>
                <a:latin typeface="Calibri"/>
              </a:rPr>
              <a:t>t’i</a:t>
            </a:r>
            <a:r>
              <a:rPr b="0" lang="sl-SI" sz="2000" spc="-1" strike="noStrike">
                <a:solidFill>
                  <a:srgbClr val="000000"/>
                </a:solidFill>
                <a:latin typeface="Calibri"/>
              </a:rPr>
              <a:t> përdorn</a:t>
            </a:r>
            <a:r>
              <a:rPr b="0" lang="en-US" sz="2000" spc="-1" strike="noStrike">
                <a:solidFill>
                  <a:srgbClr val="000000"/>
                </a:solidFill>
                <a:latin typeface="Calibri"/>
              </a:rPr>
              <a:t>i</a:t>
            </a:r>
            <a:r>
              <a:rPr b="0" lang="sl-SI" sz="2000" spc="-1" strike="noStrike">
                <a:solidFill>
                  <a:srgbClr val="000000"/>
                </a:solidFill>
                <a:latin typeface="Calibri"/>
              </a:rPr>
              <a:t> në mënyrë të përshtatshme</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1"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provat dokumentar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jë tregues </a:t>
            </a:r>
            <a:r>
              <a:rPr b="0" lang="en-US" sz="2800" spc="-1" strike="noStrike">
                <a:solidFill>
                  <a:srgbClr val="000000"/>
                </a:solidFill>
                <a:latin typeface="Calibri"/>
              </a:rPr>
              <a:t>të</a:t>
            </a:r>
            <a:r>
              <a:rPr b="0" lang="bs-BA" sz="2800" spc="-1" strike="noStrike">
                <a:solidFill>
                  <a:srgbClr val="000000"/>
                </a:solidFill>
                <a:latin typeface="Calibri"/>
              </a:rPr>
              <a:t> qartë </a:t>
            </a:r>
            <a:r>
              <a:rPr b="0" lang="en-US" sz="2800" spc="-1" strike="noStrike">
                <a:solidFill>
                  <a:srgbClr val="000000"/>
                </a:solidFill>
                <a:latin typeface="Calibri"/>
              </a:rPr>
              <a:t>të</a:t>
            </a:r>
            <a:r>
              <a:rPr b="0" lang="bs-BA" sz="2800" spc="-1" strike="noStrike">
                <a:solidFill>
                  <a:srgbClr val="000000"/>
                </a:solidFill>
                <a:latin typeface="Calibri"/>
              </a:rPr>
              <a:t> dokumenteve për të mar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jë tregues </a:t>
            </a:r>
            <a:r>
              <a:rPr b="0" lang="en-US" sz="2800" spc="-1" strike="noStrike">
                <a:solidFill>
                  <a:srgbClr val="000000"/>
                </a:solidFill>
                <a:latin typeface="Calibri"/>
              </a:rPr>
              <a:t>të</a:t>
            </a:r>
            <a:r>
              <a:rPr b="0" lang="bs-BA" sz="2800" spc="-1" strike="noStrike">
                <a:solidFill>
                  <a:srgbClr val="000000"/>
                </a:solidFill>
                <a:latin typeface="Calibri"/>
              </a:rPr>
              <a:t> qartë </a:t>
            </a:r>
            <a:r>
              <a:rPr b="0" lang="en-US" sz="2800" spc="-1" strike="noStrike">
                <a:solidFill>
                  <a:srgbClr val="000000"/>
                </a:solidFill>
                <a:latin typeface="Calibri"/>
              </a:rPr>
              <a:t>t</a:t>
            </a:r>
            <a:r>
              <a:rPr b="0" lang="bs-BA" sz="2800" spc="-1" strike="noStrike">
                <a:solidFill>
                  <a:srgbClr val="000000"/>
                </a:solidFill>
                <a:latin typeface="Calibri"/>
              </a:rPr>
              <a:t>ë vendi</a:t>
            </a:r>
            <a:r>
              <a:rPr b="0" lang="en-US" sz="2800" spc="-1" strike="noStrike">
                <a:solidFill>
                  <a:srgbClr val="000000"/>
                </a:solidFill>
                <a:latin typeface="Calibri"/>
              </a:rPr>
              <a:t>t</a:t>
            </a:r>
            <a:r>
              <a:rPr b="0" lang="bs-BA" sz="2800" spc="-1" strike="noStrike">
                <a:solidFill>
                  <a:srgbClr val="000000"/>
                </a:solidFill>
                <a:latin typeface="Calibri"/>
              </a:rPr>
              <a:t> ku mund të gjenden dokumentet / </a:t>
            </a:r>
            <a:r>
              <a:rPr b="0" lang="en-US" sz="2800" spc="-1" strike="noStrike">
                <a:solidFill>
                  <a:srgbClr val="000000"/>
                </a:solidFill>
                <a:latin typeface="Calibri"/>
              </a:rPr>
              <a:t>sendet</a:t>
            </a:r>
            <a:r>
              <a:rPr b="0" lang="bs-BA" sz="2800" spc="-1" strike="noStrike">
                <a:solidFill>
                  <a:srgbClr val="000000"/>
                </a:solidFill>
                <a:latin typeface="Calibri"/>
              </a:rPr>
              <a:t> / </a:t>
            </a:r>
            <a:r>
              <a:rPr b="0" lang="en-US" sz="2800" spc="-1" strike="noStrike">
                <a:solidFill>
                  <a:srgbClr val="000000"/>
                </a:solidFill>
                <a:latin typeface="Calibri"/>
              </a:rPr>
              <a:t>provat</a:t>
            </a:r>
            <a:r>
              <a:rPr b="0" lang="bs-BA" sz="2800" spc="-1" strike="noStrike">
                <a:solidFill>
                  <a:srgbClr val="000000"/>
                </a:solidFill>
                <a:latin typeface="Calibri"/>
              </a:rPr>
              <a:t> ose personi ose subjekti që i mban ato</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D241-E284-409E-B99A-9E66722BA1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4" name=""/>
          <p:cNvSpPr txBox="1"/>
          <p:nvPr/>
        </p:nvSpPr>
        <p:spPr>
          <a:xfrm>
            <a:off x="179280" y="2276640"/>
            <a:ext cx="885672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provat elektronik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ikoni sa më shumë detaje të jetë e mundur në lidhje me provat elektronike që kërkoni të merrni, jepni informacionin e nevojshëm teknik për provat e kërkuara në qoftë se janë në dispozicion (koha e serverit/sistemit, kuadri kohor, detajet e identifikimit si adresat IP dhe MAC, adresa e emailit, detajet e llogarisë së përdoruesit etj).</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egoni vendin dhe detajet ku mund të gjenden pasuritë ose personi ose subjekti që i mban ato.</a:t>
            </a:r>
            <a:endParaRPr b="0" lang="en-US" sz="26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FC30-24E1-45DF-BC93-0244C5957A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7"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ekzekutimin e një urdhër arresti</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hkëngjitni urdhër arrestin e vlefshëm të lëshuar nga autoriteti gjyqësor vendas</a:t>
            </a:r>
            <a:r>
              <a:rPr b="0" lang="bs-BA"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pni udhëzime të sakta për vendin dhe objektet që do të kontrollohen</a:t>
            </a:r>
            <a:r>
              <a:rPr b="0" lang="bs-BA"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rregulla të detajuara për tu ndjekur në ekzekutimin e kontroll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pni udhëzime të sakta për provat që do të kërkohe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E8DB-ACB7-4234-8360-7936063613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0" name=""/>
          <p:cNvSpPr txBox="1"/>
          <p:nvPr/>
        </p:nvSpPr>
        <p:spPr>
          <a:xfrm>
            <a:off x="468360" y="2195280"/>
            <a:ext cx="8229600" cy="44082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sekuestrimin/konfiskimi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epni një kopje të urdhrit të vlefshëm të sekuestrimit/konfiskimit të lëshuar nga autoriteti gjyqësor venda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dhëzime të sakta për objektet që do të sekuestrohen/konfiskohen </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egoni çdo </a:t>
            </a:r>
            <a:r>
              <a:rPr b="1" lang="en-GB" sz="2800" spc="-1" strike="noStrike">
                <a:solidFill>
                  <a:srgbClr val="000000"/>
                </a:solidFill>
                <a:latin typeface="Calibri"/>
              </a:rPr>
              <a:t>rregull specifik sipas nevojës për ekzekutimin e kontrollit</a:t>
            </a:r>
            <a:endParaRPr b="0" lang="en-US" sz="28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F4A3-9960-44AC-AEAB-F9421E0BE1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3" name=""/>
          <p:cNvSpPr txBox="1"/>
          <p:nvPr/>
        </p:nvSpPr>
        <p:spPr>
          <a:xfrm>
            <a:off x="250920" y="2133720"/>
            <a:ext cx="864216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masat hetimore të posaçme:</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uroni një kopje të urdhrit të vlefshëm për MHP-të të lëshuar nga autoriteti gjyqësor kompetent vendas</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fushëzbatimin dhe natyrën e veprimeve për tu ndërmarrë</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kushtet e posaçme për tu respektuar</a:t>
            </a:r>
            <a:r>
              <a:rPr b="0" lang="bs-BA" sz="2400" spc="-1" strike="noStrike">
                <a:solidFill>
                  <a:srgbClr val="000000"/>
                </a:solidFill>
                <a:latin typeface="Calibri"/>
              </a:rPr>
              <a:t> – </a:t>
            </a:r>
            <a:r>
              <a:rPr b="1" lang="bs-BA" sz="2400" spc="-1" strike="noStrike">
                <a:solidFill>
                  <a:srgbClr val="000000"/>
                </a:solidFill>
                <a:latin typeface="Calibri"/>
              </a:rPr>
              <a:t>identit</a:t>
            </a:r>
            <a:r>
              <a:rPr b="1" lang="en-US" sz="2400" spc="-1" strike="noStrike">
                <a:solidFill>
                  <a:srgbClr val="000000"/>
                </a:solidFill>
                <a:latin typeface="Calibri"/>
              </a:rPr>
              <a:t>etin</a:t>
            </a:r>
            <a:r>
              <a:rPr b="1" lang="bs-BA" sz="2400" spc="-1" strike="noStrike">
                <a:solidFill>
                  <a:srgbClr val="000000"/>
                </a:solidFill>
                <a:latin typeface="Calibri"/>
              </a:rPr>
              <a:t>/anonimit</a:t>
            </a:r>
            <a:r>
              <a:rPr b="1" lang="en-US" sz="2400" spc="-1" strike="noStrike">
                <a:solidFill>
                  <a:srgbClr val="000000"/>
                </a:solidFill>
                <a:latin typeface="Calibri"/>
              </a:rPr>
              <a:t>etin e agjentëve të infiltruar</a:t>
            </a:r>
            <a:r>
              <a:rPr b="1" lang="bs-BA" sz="2400" spc="-1" strike="noStrike">
                <a:solidFill>
                  <a:srgbClr val="000000"/>
                </a:solidFill>
                <a:latin typeface="Calibri"/>
              </a:rPr>
              <a:t>,</a:t>
            </a:r>
            <a:r>
              <a:rPr b="0" lang="bs-BA" sz="2400" spc="-1" strike="noStrike">
                <a:solidFill>
                  <a:srgbClr val="000000"/>
                </a:solidFill>
                <a:latin typeface="Calibri"/>
              </a:rPr>
              <a:t> </a:t>
            </a:r>
            <a:r>
              <a:rPr b="0" lang="en-US" sz="2400" spc="-1" strike="noStrike">
                <a:solidFill>
                  <a:srgbClr val="000000"/>
                </a:solidFill>
                <a:latin typeface="Calibri"/>
              </a:rPr>
              <a:t>kriteret logjistike dhe teknike, mbulimin e kostove dhe shpenzimeve, </a:t>
            </a:r>
            <a:r>
              <a:rPr b="1" lang="en-US" sz="2400" spc="-1" strike="noStrike">
                <a:solidFill>
                  <a:srgbClr val="000000"/>
                </a:solidFill>
                <a:latin typeface="Calibri"/>
              </a:rPr>
              <a:t>kanalet e komunikimit të specifikuara</a:t>
            </a:r>
            <a:r>
              <a:rPr b="0" lang="bs-BA" sz="2400" spc="-1" strike="noStrike">
                <a:solidFill>
                  <a:srgbClr val="000000"/>
                </a:solidFill>
                <a:latin typeface="Calibri"/>
              </a:rPr>
              <a:t>, et</a:t>
            </a:r>
            <a:r>
              <a:rPr b="0" lang="en-US" sz="2400" spc="-1" strike="noStrike">
                <a:solidFill>
                  <a:srgbClr val="000000"/>
                </a:solidFill>
                <a:latin typeface="Calibri"/>
              </a:rPr>
              <a:t>j</a:t>
            </a:r>
            <a:r>
              <a:rPr b="0" lang="bs-BA" sz="2400" spc="-1" strike="noStrike">
                <a:solidFill>
                  <a:srgbClr val="000000"/>
                </a:solidFill>
                <a:latin typeface="Calibri"/>
              </a:rPr>
              <a:t>.</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pas rastit</a:t>
            </a:r>
            <a:r>
              <a:rPr b="0" lang="bs-BA" sz="2400" spc="-1" strike="noStrike">
                <a:solidFill>
                  <a:srgbClr val="000000"/>
                </a:solidFill>
                <a:latin typeface="Calibri"/>
              </a:rPr>
              <a:t>, </a:t>
            </a:r>
            <a:r>
              <a:rPr b="0" lang="en-US" sz="2400" spc="-1" strike="noStrike">
                <a:solidFill>
                  <a:srgbClr val="000000"/>
                </a:solidFill>
                <a:latin typeface="Calibri"/>
              </a:rPr>
              <a:t>nënshkruani një marrëveshje </a:t>
            </a:r>
            <a:r>
              <a:rPr b="1" lang="en-US" sz="2400" spc="-1" strike="noStrike" u="sng">
                <a:solidFill>
                  <a:srgbClr val="000000"/>
                </a:solidFill>
                <a:uFillTx/>
                <a:latin typeface="Calibri"/>
              </a:rPr>
              <a:t>GPH.</a:t>
            </a:r>
            <a:endParaRPr b="0" lang="en-US" sz="2400" spc="-1" strike="noStrike">
              <a:solidFill>
                <a:srgbClr val="000000"/>
              </a:solidFill>
              <a:latin typeface="Calibri"/>
            </a:endParaRPr>
          </a:p>
        </p:txBody>
      </p:sp>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4A14-984C-4509-BEDF-401DFDEF0C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6" name=""/>
          <p:cNvSpPr txBox="1"/>
          <p:nvPr/>
        </p:nvSpPr>
        <p:spPr>
          <a:xfrm>
            <a:off x="457200" y="2492280"/>
            <a:ext cx="8229600" cy="3633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Theksoni ndonjë </a:t>
            </a:r>
            <a:r>
              <a:rPr b="1" lang="sv-SE" sz="2800" spc="-1" strike="noStrike">
                <a:solidFill>
                  <a:srgbClr val="000000"/>
                </a:solidFill>
                <a:latin typeface="Calibri"/>
              </a:rPr>
              <a:t>kërkesë specifike konfidencialiteti</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caktoni dhe specifikoni nivelin e urgjencës në ekzekutimin e kërkesës si dhe afatet kohor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dentifikimin e duhur dhe sa më të saktë që të jetë e mundshme të të dyshuarit(ve) – mos harroni kjo është një botë virtuale - identiteti mund të fshihet lehtë, të ndryshohet, të vidhet.</a:t>
            </a:r>
            <a:endParaRPr b="0" lang="en-US" sz="28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E05F-694C-4EA6-8642-1651D7C103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9" name=""/>
          <p:cNvSpPr txBox="1"/>
          <p:nvPr/>
        </p:nvSpPr>
        <p:spPr>
          <a:xfrm>
            <a:off x="457200" y="2363400"/>
            <a:ext cx="8229600" cy="376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dentifikimi i duhur dhe prioritizimi i provave që kërkohen nga NNJ - vendosja e prioriteteve - zgjedhja vetëm e atyre të rëndësishmeve për hetimin - racionalizimi i burimeve dhe rritja e efikasitetit.</a:t>
            </a:r>
            <a:endParaRPr b="0" lang="en-US" sz="32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CCEC-28F6-4D5E-80A6-34B8EBB5A1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2" name=""/>
          <p:cNvSpPr txBox="1"/>
          <p:nvPr/>
        </p:nvSpPr>
        <p:spPr>
          <a:xfrm>
            <a:off x="468360" y="2276640"/>
            <a:ext cx="8229600" cy="431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pikave të kontaktit </a:t>
            </a:r>
            <a:r>
              <a:rPr b="0" lang="en-GB" sz="2400" spc="-1" strike="noStrike">
                <a:solidFill>
                  <a:srgbClr val="000000"/>
                </a:solidFill>
                <a:latin typeface="Calibri"/>
              </a:rPr>
              <a:t>të përshtatshëm në vendet e tjera – pika kontakti 24/7 sipas Konventës së Budapestit, kanaleve të Interpolit etj. - veçanërisht për rastet e "ndjekjes urgjente", ku duhet të ndërmerren masa të menjëhershme për të siguruar dhe ruajtur të dhënat digjita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Vendosja e kontakteve joformale me homologët e duhur para dorëzimit të NNJ-ve zyrtare </a:t>
            </a:r>
            <a:r>
              <a:rPr b="0" lang="en-GB" sz="2400" spc="-1" strike="noStrike">
                <a:solidFill>
                  <a:srgbClr val="000000"/>
                </a:solidFill>
                <a:latin typeface="Calibri"/>
              </a:rPr>
              <a:t>për t'i informuar ata për NNJ-të e ardhshme, për kryerjen e kontrolleve operacionale me qëllim që të specifikohet kërkesa sa më e hollësishme që të jetë e mundu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1156-2A40-4687-90EC-966ACA0A51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5" name=""/>
          <p:cNvSpPr txBox="1"/>
          <p:nvPr/>
        </p:nvSpPr>
        <p:spPr>
          <a:xfrm>
            <a:off x="468360" y="2491920"/>
            <a:ext cx="8229600" cy="391788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ë siguruarit se juridiksioni është identifikuar në mënyrë të duhur në lidhje me faktin se </a:t>
            </a:r>
            <a:r>
              <a:rPr b="1" lang="en-GB" sz="2200" spc="-1" strike="noStrike">
                <a:solidFill>
                  <a:srgbClr val="000000"/>
                </a:solidFill>
                <a:latin typeface="Calibri"/>
              </a:rPr>
              <a:t>ku janë gjetur dëshmitë / keqbërësit / viktimat</a:t>
            </a:r>
            <a:r>
              <a:rPr b="0" lang="en-GB" sz="2200" spc="-1" strike="noStrike">
                <a:solidFill>
                  <a:srgbClr val="000000"/>
                </a:solidFill>
                <a:latin typeface="Calibri"/>
              </a:rPr>
              <a:t>, duke pasur parasysh çështjet teknologjike, si </a:t>
            </a:r>
            <a:r>
              <a:rPr b="1" lang="en-GB" sz="2200" spc="-1" strike="noStrike">
                <a:solidFill>
                  <a:srgbClr val="000000"/>
                </a:solidFill>
                <a:latin typeface="Calibri"/>
              </a:rPr>
              <a:t>pronësia e të dhënave elektronike, vendndodhja fizike e serverit / ofruesit dhe qëndrimi ligjor i pronarit / serverë të vendosur në një vend ose në rastin e përpunimit të të dhënave të mbajtura në rrjete online me pronarët e regjistruar dhe që veprojnë nga juridiksione të ndryshm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Zona kohore të ndryshme </a:t>
            </a:r>
            <a:r>
              <a:rPr b="0" lang="en-GB" sz="2200" spc="-1" strike="noStrike">
                <a:solidFill>
                  <a:srgbClr val="000000"/>
                </a:solidFill>
                <a:latin typeface="Calibri"/>
              </a:rPr>
              <a:t>– vështirësitë në vendosjen e kontakteve edhe kur përdoren mjetet bashkëkohore të komunikimit (dmth. telekonferenca) – kjo mund të vonojë hetimet / kërkesat e NNJ dhe mund të sjellë rritjen e kostove - akoma ekzistojnë zyrat e policisë dhe të prokurorisë pa akses në telefonata ndërkombëtare!</a:t>
            </a:r>
            <a:endParaRPr b="0" lang="en-US" sz="2200" spc="-1" strike="noStrike">
              <a:solidFill>
                <a:srgbClr val="000000"/>
              </a:solidFill>
              <a:latin typeface="Calibri"/>
            </a:endParaRPr>
          </a:p>
        </p:txBody>
      </p:sp>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C5FA-E201-41F8-A34A-54002026B9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8" name=""/>
          <p:cNvSpPr txBox="1"/>
          <p:nvPr/>
        </p:nvSpPr>
        <p:spPr>
          <a:xfrm>
            <a:off x="468360" y="2349000"/>
            <a:ext cx="8229600" cy="4240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ërkthimi</a:t>
            </a:r>
            <a:r>
              <a:rPr b="0" lang="en-GB" sz="3200" spc="-1" strike="noStrike">
                <a:solidFill>
                  <a:srgbClr val="000000"/>
                </a:solidFill>
                <a:latin typeface="Calibri"/>
              </a:rPr>
              <a:t> i dokumenteve – shumë shtete kërkojnë që kërkesat për NNJ të jenë të përkthyera në gjuhën e tyre zyrtar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rrierat e gjuhës gjatë kontakteve direkte dhe jo zyrtare ndërmjet zyrtarëve ligjzbatues, gjyqtarëve dhe prokurorëve.</a:t>
            </a:r>
            <a:endParaRPr b="0" lang="en-US" sz="32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C8B6-B94A-4856-99BE-1FC371CCBB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68000" y="2276280"/>
            <a:ext cx="849636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rje në temën e bashkëpunimit ndërkombët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kat e krimit në Intern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31" name=""/>
          <p:cNvSpPr txBox="1"/>
          <p:nvPr/>
        </p:nvSpPr>
        <p:spPr>
          <a:xfrm>
            <a:off x="457200" y="2492280"/>
            <a:ext cx="8229600" cy="3633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ërgatituni për vonesat </a:t>
            </a:r>
            <a:r>
              <a:rPr b="0" lang="en-US" sz="2800" spc="-1" strike="noStrike">
                <a:solidFill>
                  <a:srgbClr val="000000"/>
                </a:solidFill>
                <a:latin typeface="Calibri"/>
              </a:rPr>
              <a:t>për shkak të niveleve të ndryshme të rëndësisë së hetimeve të krimit kibernetik në vende të ndryshme</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rrni në konsideratë dhënien e mbështetjes teknike dhe eksperte nëse pala e kërkuar nuk ka kapacitete të veta për të ekzekutuar kërkesën tuaj.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BC0B-8642-423E-A4D7-8357112776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34" name=""/>
          <p:cNvSpPr txBox="1"/>
          <p:nvPr/>
        </p:nvSpPr>
        <p:spPr>
          <a:xfrm>
            <a:off x="457200" y="2349000"/>
            <a:ext cx="8229600" cy="3776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qyrtoni kërkimin dhe vendosjen e mjeteve dhe masave hetimore konvencionale / tradicionale kurdo që është e mundur - </a:t>
            </a:r>
            <a:r>
              <a:rPr b="0" lang="en-GB" sz="2800" spc="-1" strike="noStrike">
                <a:solidFill>
                  <a:srgbClr val="000000"/>
                </a:solidFill>
                <a:latin typeface="Calibri"/>
              </a:rPr>
              <a:t>zyrtarët policorë / prokurorët më të mësuar me to, ndonjëherë mund t'i shërbejnë në mënyrë të barabartë qëllimit dhe të ofrojnë prova të mjaftueshme për hetim dhe procedim penal të suksesshëm.</a:t>
            </a:r>
            <a:endParaRPr b="0" lang="en-US" sz="28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CC85-B00C-43F3-9B4C-71C6D075FC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7" name="TextBox 3"/>
          <p:cNvSpPr/>
          <p:nvPr/>
        </p:nvSpPr>
        <p:spPr>
          <a:xfrm>
            <a:off x="3570840" y="4581360"/>
            <a:ext cx="229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Pyetje?</a:t>
            </a:r>
            <a:endParaRPr b="0" lang="en-US" sz="54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2192-9FD3-4814-B433-55BAE982DF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yetjet</a:t>
            </a:r>
            <a:r>
              <a:rPr b="1" lang="sl-SI" sz="4400" spc="-1" strike="noStrike">
                <a:solidFill>
                  <a:srgbClr val="000000"/>
                </a:solidFill>
                <a:latin typeface="Calibri"/>
              </a:rPr>
              <a:t>:</a:t>
            </a:r>
            <a:endParaRPr b="0" lang="en-US" sz="4400" spc="-1" strike="noStrike">
              <a:solidFill>
                <a:srgbClr val="000000"/>
              </a:solidFill>
              <a:latin typeface="Calibri"/>
            </a:endParaRPr>
          </a:p>
        </p:txBody>
      </p:sp>
      <p:sp>
        <p:nvSpPr>
          <p:cNvPr id="140" name=""/>
          <p:cNvSpPr txBox="1"/>
          <p:nvPr/>
        </p:nvSpPr>
        <p:spPr>
          <a:xfrm>
            <a:off x="468360" y="2276640"/>
            <a:ext cx="8229600" cy="42480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t autoritetet vendase janë të përfshira në bashkëpunimin ndërkombëtar: shkëmbimin e informacionit, NNJ, dhe shtyrjen e transaksion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rjetet dhe organizatat përkatëse? Kush janë pikat kombëtare të kontak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ush është autoriteti qendror për Konventën e Varshavës dhe Budapes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t informata mund të kërkohen dhe cilat kërkesa procedurale mund të bëhen në bazë të Konventës së Varshavës dhe Budapes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i është legjislacioni përkatës vendas për bashkëpunimin ndërkombëtar (policia, prokurorët, NNJ?)</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 është praktika me bashkëpunim të drejtpërdrejtë me MSP në SHB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ë dhënat për NNJ / STATISTIK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htrim</a:t>
            </a:r>
            <a:endParaRPr b="0" lang="en-US" sz="2800" spc="-1" strike="noStrike">
              <a:solidFill>
                <a:srgbClr val="000000"/>
              </a:solidFill>
              <a:latin typeface="Calibri"/>
            </a:endParaRPr>
          </a:p>
        </p:txBody>
      </p:sp>
      <p:graphicFrame>
        <p:nvGraphicFramePr>
          <p:cNvPr id="142" name=""/>
          <p:cNvGraphicFramePr/>
          <p:nvPr/>
        </p:nvGraphicFramePr>
        <p:xfrm>
          <a:off x="179280" y="1773360"/>
          <a:ext cx="8785440" cy="4751280"/>
        </p:xfrm>
        <a:graphic>
          <a:graphicData uri="http://schemas.openxmlformats.org/drawingml/2006/table">
            <a:tbl>
              <a:tblPr/>
              <a:tblGrid>
                <a:gridCol w="4313520"/>
                <a:gridCol w="4471920"/>
              </a:tblGrid>
              <a:tr h="47512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kutoni </a:t>
                      </a:r>
                      <a:r>
                        <a:rPr b="1" lang="sl-SI" sz="2000" spc="-1" strike="noStrike" u="sng">
                          <a:solidFill>
                            <a:srgbClr val="002060"/>
                          </a:solidFill>
                          <a:uFillTx/>
                          <a:latin typeface="Calibri"/>
                        </a:rPr>
                        <a:t>dispozitat e brendshme </a:t>
                      </a:r>
                      <a:r>
                        <a:rPr b="1" lang="sl-SI" sz="2000" spc="-1" strike="noStrike">
                          <a:solidFill>
                            <a:srgbClr val="002060"/>
                          </a:solidFill>
                          <a:latin typeface="Calibri"/>
                        </a:rPr>
                        <a:t>ligjore dhe jurisprudencën</a:t>
                      </a:r>
                      <a:r>
                        <a:rPr b="1" lang="en-US" sz="2000" spc="-1" strike="noStrike">
                          <a:solidFill>
                            <a:srgbClr val="002060"/>
                          </a:solidFill>
                          <a:latin typeface="Calibri"/>
                        </a:rPr>
                        <a:t> për: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ërkesën dhe ekzekutimin e NNJ</a:t>
                      </a:r>
                      <a:r>
                        <a:rPr b="0" lang="sl-SI" sz="2000" spc="-1" strike="noStrike">
                          <a:solidFill>
                            <a:srgbClr val="002060"/>
                          </a:solidFill>
                          <a:latin typeface="Calibri"/>
                        </a:rPr>
                        <a:t>: </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 në të dhënat bankare</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 në trafikun dhe të dhënat e përmbajtjes së abonentit të ISP-së, përfshirë përgjimin</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ërkesa për ruajtje direkt tek ISP-ja</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in, sekuestrimin dhe analizën shkencore të të dhënave kompjuterike të ruajtura (provat elektronike)</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grirja e transaksionit / 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darja e aseteve</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Jepni/diskutoni për modele/formularë për</a:t>
                      </a:r>
                      <a:r>
                        <a:rPr b="0" lang="en-US" sz="2000" spc="-1" strike="noStrike">
                          <a:solidFill>
                            <a:srgbClr val="002060"/>
                          </a:solidFill>
                          <a:latin typeface="Calibri"/>
                        </a:rPr>
                        <a:t>:</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t NNJ në bazë të legjislacionit kombëtar në lidhje me konventat e Budapestit dhe Varshav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ruajtjen e përshpejtuar të të dhënave kompjuterike të memorizuara dhe zbulimin e të dhënave të trafiku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ë për ruajtjen e drejtpërdrejtë në ISP</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 përmes rrjetit 24/7 (Konventa e Budapesti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 e GPH për të shtyrë transaksionin financiar jashtë vend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144"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pjegoni rëndësinë e bashkëpunimit ndërkombëtar në shënjestrimin e të ardhurave të krimit në interne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pjegoni përparësitë e kombinimit të rrugëve të bashkëpunimit ndërkombëtar në fushën e krimit kibernetik dhe të provave elektronike, si dhe hetimeve financiare dhe pastrimit të parav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lloni ndërmjet bashkëpunimit ndërkombëtar për shkëmbimin e informacionit dhe për ndihmën e ndërsjellë juridik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isni rrjetet përkatëse ndërkombëtare dhe organizatat për shkëmbimin e informacioni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shkruani natyrën dhe qëllimin e ndihmës së ndërsjellë juridike (NNJ).</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zantoni instrumentet ligjore ndërkombëtare përkatës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koni dispozitat përkatëse të konventave të Budapestit dhe Varshavës në mënyrë që të jeni në gjendje t'i përdorni ato në mënyrë të përshtatshme</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6" name="TextBox 4"/>
          <p:cNvSpPr/>
          <p:nvPr/>
        </p:nvSpPr>
        <p:spPr>
          <a:xfrm>
            <a:off x="3451320" y="4508640"/>
            <a:ext cx="224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yetj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ë ardhurat nga krimi në Internet - masat hetimore: aspekti vendas / ndërkombëtar</a:t>
            </a:r>
            <a:endParaRPr b="0" lang="en-US" sz="2800" spc="-1" strike="noStrike">
              <a:solidFill>
                <a:srgbClr val="000000"/>
              </a:solidFill>
              <a:latin typeface="Calibri"/>
            </a:endParaRPr>
          </a:p>
        </p:txBody>
      </p:sp>
      <p:graphicFrame>
        <p:nvGraphicFramePr>
          <p:cNvPr id="65"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kuror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ejton hetimin, urdhëron masat, bën propozime gjykatë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timi i krimit (kiberneti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i krimit (kibernet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ëndësia e provave elektronike dhe mjekësia ligjore digjitale </a:t>
                      </a:r>
                      <a:r>
                        <a:rPr b="0" lang="en-GB" sz="1600" spc="-1" strike="noStrike">
                          <a:solidFill>
                            <a:srgbClr val="000000"/>
                          </a:solidFill>
                          <a:latin typeface="Calibri"/>
                        </a:rPr>
                        <a:t>(nganjëherë e veçantë)</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kimi i një të dyshua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dresa I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i i abonentit (p.sh.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ngazhimi i ISP (abonenti, trafiku, të dhënat e përmbajtje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unë e masku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gj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ontroll shtëpi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rje në pyetj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timi financi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ënjestrimi i të ardhurave nga krim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yrja tek të dhënat banka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mbikqyrjes – llogaria banka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sekuestrimit/ngrirj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a:t>
                      </a:r>
                      <a:r>
                        <a:rPr b="0" lang="sl-SI" sz="1600" spc="-1" strike="noStrike">
                          <a:solidFill>
                            <a:srgbClr val="000000"/>
                          </a:solidFill>
                          <a:latin typeface="Calibri"/>
                        </a:rPr>
                        <a:t>onfis</a:t>
                      </a:r>
                      <a:r>
                        <a:rPr b="0" lang="en-US" sz="1600" spc="-1" strike="noStrike">
                          <a:solidFill>
                            <a:srgbClr val="000000"/>
                          </a:solidFill>
                          <a:latin typeface="Calibri"/>
                        </a:rPr>
                        <a:t>kimi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trimi i parave - NJHF</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iza STR</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në të dhënat bankare/analizë</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tyrja e transaksioneve financiare të dyshim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67" name=""/>
          <p:cNvGraphicFramePr/>
          <p:nvPr/>
        </p:nvGraphicFramePr>
        <p:xfrm>
          <a:off x="250920" y="1989000"/>
          <a:ext cx="8569080" cy="4481640"/>
        </p:xfrm>
        <a:graphic>
          <a:graphicData uri="http://schemas.openxmlformats.org/drawingml/2006/table">
            <a:tbl>
              <a:tblPr/>
              <a:tblGrid>
                <a:gridCol w="4246560"/>
                <a:gridCol w="432252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pejtësi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rjet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këmbimi i informacionit në një çështje konkret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dihma në hetime (kushtet kombëtare për NNJ)</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darja e përvoja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 zbatim të urdhrave gjyqësor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Ndihma e Ndërsjellë Juridik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hkëpunim zyrt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kzekutimi i kërkesave</a:t>
                      </a:r>
                      <a:r>
                        <a:rPr b="0" lang="sl-SI" sz="1800" spc="-1" strike="noStrike">
                          <a:solidFill>
                            <a:srgbClr val="000000"/>
                          </a:solidFill>
                          <a:latin typeface="Calibri"/>
                        </a:rPr>
                        <a:t>, </a:t>
                      </a:r>
                      <a:r>
                        <a:rPr b="0" lang="en-US" sz="1800" spc="-1" strike="noStrike">
                          <a:solidFill>
                            <a:srgbClr val="000000"/>
                          </a:solidFill>
                          <a:latin typeface="Calibri"/>
                        </a:rPr>
                        <a:t>vendimeve gjyqësor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nesa të gjata</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ND</a:t>
                      </a:r>
                      <a:r>
                        <a:rPr b="0" lang="en-US" sz="2400" spc="-1" strike="noStrike">
                          <a:solidFill>
                            <a:srgbClr val="000000"/>
                          </a:solidFill>
                          <a:latin typeface="Calibri"/>
                        </a:rPr>
                        <a:t>Ë</a:t>
                      </a:r>
                      <a:r>
                        <a:rPr b="0" lang="en-US" sz="2400" spc="-1" strike="noStrike">
                          <a:solidFill>
                            <a:srgbClr val="000000"/>
                          </a:solidFill>
                          <a:latin typeface="Calibri"/>
                        </a:rPr>
                        <a:t>SI T</a:t>
                      </a:r>
                      <a:r>
                        <a:rPr b="0" lang="en-US" sz="2400" spc="-1" strike="noStrike">
                          <a:solidFill>
                            <a:srgbClr val="000000"/>
                          </a:solidFill>
                          <a:latin typeface="Calibri"/>
                        </a:rPr>
                        <a:t>Ë</a:t>
                      </a:r>
                      <a:r>
                        <a:rPr b="0" lang="en-US" sz="2400" spc="-1" strike="noStrike">
                          <a:solidFill>
                            <a:srgbClr val="000000"/>
                          </a:solidFill>
                          <a:latin typeface="Calibri"/>
                        </a:rPr>
                        <a:t> TJERA</a:t>
                      </a:r>
                      <a:r>
                        <a:rPr b="0" lang="sl-SI"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en-US" sz="2000" spc="-1" strike="noStrike">
                          <a:solidFill>
                            <a:srgbClr val="000000"/>
                          </a:solidFill>
                          <a:latin typeface="Calibri"/>
                        </a:rPr>
                        <a:t>GRUPET E P</a:t>
                      </a:r>
                      <a:r>
                        <a:rPr b="0" lang="en-US" sz="2000" spc="-1" strike="noStrike">
                          <a:solidFill>
                            <a:srgbClr val="000000"/>
                          </a:solidFill>
                          <a:latin typeface="Calibri"/>
                        </a:rPr>
                        <a:t>Ë</a:t>
                      </a:r>
                      <a:r>
                        <a:rPr b="0" lang="en-US" sz="2000" spc="-1" strike="noStrike">
                          <a:solidFill>
                            <a:srgbClr val="000000"/>
                          </a:solidFill>
                          <a:latin typeface="Calibri"/>
                        </a:rPr>
                        <a:t>RBASHK</a:t>
                      </a:r>
                      <a:r>
                        <a:rPr b="0" lang="en-US" sz="2000" spc="-1" strike="noStrike">
                          <a:solidFill>
                            <a:srgbClr val="000000"/>
                          </a:solidFill>
                          <a:latin typeface="Calibri"/>
                        </a:rPr>
                        <a:t>Ë</a:t>
                      </a:r>
                      <a:r>
                        <a:rPr b="0" lang="en-US" sz="2000" spc="-1" strike="noStrike">
                          <a:solidFill>
                            <a:srgbClr val="000000"/>
                          </a:solidFill>
                          <a:latin typeface="Calibri"/>
                        </a:rPr>
                        <a:t>TA HETIMO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en-US" sz="2000" spc="-1" strike="noStrike">
                          <a:solidFill>
                            <a:srgbClr val="000000"/>
                          </a:solidFill>
                          <a:latin typeface="Calibri"/>
                        </a:rPr>
                        <a:t>HETIM PARALE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a:t>
                      </a:r>
                      <a:r>
                        <a:rPr b="0" lang="en-US" sz="2000" spc="-1" strike="noStrike">
                          <a:solidFill>
                            <a:srgbClr val="000000"/>
                          </a:solidFill>
                          <a:latin typeface="Calibri"/>
                        </a:rPr>
                        <a:t>IM I PROCEDIMEVE</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69" name=""/>
          <p:cNvGraphicFramePr/>
          <p:nvPr/>
        </p:nvGraphicFramePr>
        <p:xfrm>
          <a:off x="324000" y="1773360"/>
          <a:ext cx="8569080" cy="4824360"/>
        </p:xfrm>
        <a:graphic>
          <a:graphicData uri="http://schemas.openxmlformats.org/drawingml/2006/table">
            <a:tbl>
              <a:tblPr/>
              <a:tblGrid>
                <a:gridCol w="4206600"/>
                <a:gridCol w="4362480"/>
              </a:tblGrid>
              <a:tr h="4824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i EGMONT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Rrjeti 24/7</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 dypalësh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Ndihma e ndërsjellë juridik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Autoriteti qëndror kombëtar (p.sh. Ministria e Drejtësis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 mundshëm gjithashtu nëpërmjet kanaleve të Interpolit</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 mund të mundësojnë bashkëpunimin e drejtpërdrejtë</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1800" spc="-1" strike="noStrike">
                          <a:solidFill>
                            <a:srgbClr val="000000"/>
                          </a:solidFill>
                          <a:latin typeface="Calibri"/>
                          <a:ea typeface="MS PGothic"/>
                        </a:rPr>
                        <a:t>Dispozitat</a:t>
                      </a:r>
                      <a:r>
                        <a:rPr b="0" lang="en-US" sz="1800" spc="-1" strike="noStrike">
                          <a:solidFill>
                            <a:srgbClr val="000000"/>
                          </a:solidFill>
                          <a:latin typeface="Calibri"/>
                          <a:ea typeface="MS PGothic"/>
                        </a:rPr>
                        <a:t> ligjore kombëtare mund të lehtësojnë: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ET E PËRBASHKËTA HETIMOR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HETIM PARALEL</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IMI I PROCEDIMEV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tare për NNJ</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1" name=""/>
          <p:cNvGraphicFramePr/>
          <p:nvPr/>
        </p:nvGraphicFramePr>
        <p:xfrm>
          <a:off x="324000" y="1484280"/>
          <a:ext cx="8640720" cy="4880160"/>
        </p:xfrm>
        <a:graphic>
          <a:graphicData uri="http://schemas.openxmlformats.org/drawingml/2006/table">
            <a:tbl>
              <a:tblPr/>
              <a:tblGrid>
                <a:gridCol w="3009600"/>
                <a:gridCol w="1309680"/>
                <a:gridCol w="1467000"/>
                <a:gridCol w="285444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jyk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ër, ekzekuti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ia e Drejtësis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riteti qëndro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kurori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BE), EJN (B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PH-të, hetimet paralele, takimet operacional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zim/kërkesë/ekzekutim i NNJ)</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tim i krimit (kiberneti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at elektronike: abonenti (IP ID), trafiku, të dhënat e përmbajtje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hkëpunim direkt me MSP</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rjeti 24/7</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nali i Interpoli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tim Financia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dhëna bankare, monitorimi i transaksioneve bankare,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ndndodhja e pronës,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ër ngrirjeje, sekuestrimi)</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a:t>
                      </a:r>
                      <a:r>
                        <a:rPr b="0" lang="en-US" sz="1600" spc="-1" strike="noStrike">
                          <a:solidFill>
                            <a:srgbClr val="000000"/>
                          </a:solidFill>
                          <a:latin typeface="Calibri"/>
                        </a:rPr>
                        <a:t>Konfiskimi</a:t>
                      </a:r>
                      <a:r>
                        <a:rPr b="0" lang="sl-SI" sz="1600" spc="-1" strike="noStrike">
                          <a:solidFill>
                            <a:srgbClr val="000000"/>
                          </a:solidFill>
                          <a:latin typeface="Calibri"/>
                        </a:rPr>
                        <a:t>)</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strimi i Parave - NJH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këmbimi i informacionit për STR, shtyrja e transaksionit financiar)</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upi EGMON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JHF tek NJHF </a:t>
                      </a:r>
                      <a:r>
                        <a:rPr b="1" lang="sl-SI" sz="1600" spc="-1" strike="noStrike">
                          <a:solidFill>
                            <a:srgbClr val="000000"/>
                          </a:solidFill>
                          <a:latin typeface="Calibri"/>
                        </a:rPr>
                        <a:t>(</a:t>
                      </a:r>
                      <a:r>
                        <a:rPr b="1" lang="en-US" sz="1600" spc="-1" strike="noStrike">
                          <a:solidFill>
                            <a:srgbClr val="000000"/>
                          </a:solidFill>
                          <a:latin typeface="Calibri"/>
                        </a:rPr>
                        <a:t>Memorandum bashkëpunim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05264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Ligjore Ndërkombëtare</a:t>
            </a:r>
            <a:br>
              <a:rPr sz="3600"/>
            </a:br>
            <a:endParaRPr b="0" lang="en-US" sz="2800" spc="-1" strike="noStrike">
              <a:solidFill>
                <a:srgbClr val="000000"/>
              </a:solidFill>
              <a:latin typeface="Calibri"/>
            </a:endParaRPr>
          </a:p>
        </p:txBody>
      </p:sp>
      <p:sp>
        <p:nvSpPr>
          <p:cNvPr id="73" name=""/>
          <p:cNvSpPr txBox="1"/>
          <p:nvPr/>
        </p:nvSpPr>
        <p:spPr>
          <a:xfrm>
            <a:off x="214200" y="1642680"/>
            <a:ext cx="8786880" cy="49546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ida është zgjedhja e instrumentit më efektiv, pasi ato mund të ndryshojnë, në varësi të përmbajtjes së kërkesës për bashkëpunim.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 Varshavës </a:t>
            </a:r>
            <a:r>
              <a:rPr b="0" lang="en-US" sz="1800" spc="-1" strike="noStrike">
                <a:solidFill>
                  <a:srgbClr val="000000"/>
                </a:solidFill>
                <a:latin typeface="Calibri"/>
              </a:rPr>
              <a:t>krijon autoritetet qendrore për Ndihmën e Ndërsjellë Juridike të hetimit, ngrirjes dhe konfiskimit. Në situata emergjente, parashikohet një bashkëpunim i drejtpërdrejtë ndërmjet autoriteteve përgjegjëse të gjyqësorit dhe prokurorisë (neni 34), si dhe bashkëpunimi i drejtpërdrejtë midis NJHF-ve, duke përfshirë ngrirjen administrative.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nventa e Strasburgut </a:t>
            </a:r>
            <a:r>
              <a:rPr b="0" lang="en-US" sz="1800" spc="-1" strike="noStrike">
                <a:solidFill>
                  <a:srgbClr val="000000"/>
                </a:solidFill>
                <a:latin typeface="Calibri"/>
              </a:rPr>
              <a:t>e </a:t>
            </a:r>
            <a:r>
              <a:rPr b="0" lang="sl-SI" sz="1800" spc="-1" strike="noStrike">
                <a:solidFill>
                  <a:srgbClr val="000000"/>
                </a:solidFill>
                <a:latin typeface="Calibri"/>
              </a:rPr>
              <a:t>1990</a:t>
            </a:r>
            <a:r>
              <a:rPr b="0" lang="en-US" sz="1800" spc="-1" strike="noStrike">
                <a:solidFill>
                  <a:srgbClr val="000000"/>
                </a:solidFill>
                <a:latin typeface="Calibri"/>
              </a:rPr>
              <a:t>s</a:t>
            </a:r>
            <a:r>
              <a:rPr b="0" lang="sl-SI" sz="1800" spc="-1" strike="noStrike">
                <a:solidFill>
                  <a:srgbClr val="000000"/>
                </a:solidFill>
                <a:latin typeface="Calibri"/>
              </a:rPr>
              <a:t>, para Konventës së Varshavës, është e zbatueshme për palët që nuk e kanë ratifikuar këtë të fundi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 Budapestit </a:t>
            </a:r>
            <a:r>
              <a:rPr b="0" lang="en-US" sz="1800" spc="-1" strike="noStrike">
                <a:solidFill>
                  <a:srgbClr val="000000"/>
                </a:solidFill>
                <a:latin typeface="Calibri"/>
              </a:rPr>
              <a:t>parashikon rrjetin operacional 24/7 për bashkëpunim (në nivelin e policisë dhe / ose prokurorëve) dhe lejon kërkimin e drejtpërdrejtë të NNJ-së ndërmjet autoriteteve përgjegjëse në situata emergjente.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vropiane </a:t>
            </a:r>
            <a:r>
              <a:rPr b="0" lang="en-US" sz="1800" spc="-1" strike="noStrike">
                <a:solidFill>
                  <a:srgbClr val="000000"/>
                </a:solidFill>
                <a:latin typeface="Calibri"/>
              </a:rPr>
              <a:t>për Ndihmën e Ndërsjellë në Çështjet Penale, ETS 30, 20.4.1959 dhe protokollet shtesë të saj, ETS 99 dhe ETS 182.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t e OKB-së: </a:t>
            </a:r>
            <a:r>
              <a:rPr b="0" lang="en-US" sz="1800" spc="-1" strike="noStrike">
                <a:solidFill>
                  <a:srgbClr val="000000"/>
                </a:solidFill>
                <a:latin typeface="Calibri"/>
              </a:rPr>
              <a:t>1988 për drogat, 2000 Konventa UNTOC, 2003 për korrupsionin. </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Ligjore Ndërkombëtare</a:t>
            </a:r>
            <a:endParaRPr b="0" lang="en-US" sz="2800" spc="-1" strike="noStrike">
              <a:solidFill>
                <a:srgbClr val="000000"/>
              </a:solidFill>
              <a:latin typeface="Calibri"/>
            </a:endParaRPr>
          </a:p>
        </p:txBody>
      </p:sp>
      <p:graphicFrame>
        <p:nvGraphicFramePr>
          <p:cNvPr id="75"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Konventa e Budapest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Krimi Kibernetik)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onventa e Varshavë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jurmimi i të ardhurave,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globale të Kombeve të Bashkuara</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strumentet rajonal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arrëveshjet dypalësh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eti</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JB</cp:lastModifiedBy>
  <cp:lastPrinted>2016-05-18T07:38:13Z</cp:lastPrinted>
  <dcterms:modified xsi:type="dcterms:W3CDTF">2017-10-06T06:15:11Z</dcterms:modified>
  <cp:revision>471</cp:revision>
  <dc:subject/>
  <dc:title>PowerPoint Presentation</dc:title>
</cp:coreProperties>
</file>